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2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3200" spc="-1" strike="noStrike">
                <a:solidFill>
                  <a:srgbClr val="046ca6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dt" idx="5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ftr" idx="6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 type="sldNum" idx="7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6C2E6DE-13AB-41D1-9948-52C58DF352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 type="sldNum" idx="4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883AA36-E83B-47FC-A68B-4AC558138C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 type="sldNum" idx="4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FD59BE2-E83C-4236-8DA5-3405D4DDB6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sldNum" idx="4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6E8D75A-04C7-42D0-8670-39245719C3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 type="sldNum" idx="4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B2289ED-AF6E-4D0D-B981-A3AABA7A6B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 type="sldNum" idx="5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82A4E8F-95A7-4695-BB1E-EA67265337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 type="sldNum" idx="5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B92A497-A6DB-48CD-99E9-EB863813D2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 type="sldNum" idx="5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AA7AA9D-B866-4A07-8784-E535FDAC24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 type="sldNum" idx="5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9C9C3B3-164B-4737-B074-7BA62B282D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 type="sldNum" idx="4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E447DAE-09B0-4854-94A1-E030D72676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sldNum" idx="4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E696299-6B78-453A-A63B-98DA65E8F4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 type="sldNum" idx="4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FFE789B-D73D-4495-8372-747FE07116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sldNum" idx="4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F3BB973-39C1-404A-88C5-B88F48B964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sldNum" idx="45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D752078-5530-4CC1-9444-3A0E3CE46D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A78E4D-A416-48B2-A70A-3D6D401A223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D56B87-F541-436D-946B-B22679CB0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597B5A-C1C5-459F-864A-7DF352181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0C64E9-97DC-4B44-9E0F-3228F8617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325310-E5BC-48F7-8429-F8AFF9520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A08F2D-8396-4833-B91A-3F12B66D6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3AA6CF-4993-453A-A42C-496D0B99D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F74A8A-DE3A-4880-927E-FF7CA5296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E8A1CE-BBF2-4CA0-A67E-F86C9A6DE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CD1D76-7AA5-4767-B57A-DDAF3EB5F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3B6390-CD50-4739-9327-B168BAE2A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7EF8D6-99B8-400F-AE06-041BCBBB2CA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67D7F-8C60-4105-A1EA-DD37F9ECA91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2932A-1135-4FD3-8430-49B610FEB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C4DBC-53F8-4FF0-A242-42927154A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2BEB2-26A6-4E21-970F-09DDEAFF7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A9ED8-4E75-4720-8001-6984C7EBA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D58C5-9A24-40EB-B69B-20608B042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A06BC-CF8B-437B-A0AD-1FEB6AE79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7C6C1-4544-4553-8524-C32B352A8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3EB5F-83C6-431B-8186-D4824DF82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E36E1-D91A-43E2-896B-308556E3B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07BB6-4F9C-43F3-9B34-FC5440FB8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70D87-0A9A-4056-A342-27EEC8F47DC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3640" cy="104724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 hidden="1"/>
          <p:cNvSpPr/>
          <p:nvPr/>
        </p:nvSpPr>
        <p:spPr>
          <a:xfrm>
            <a:off x="0" y="0"/>
            <a:ext cx="9143640" cy="240840"/>
          </a:xfrm>
          <a:prstGeom prst="rect">
            <a:avLst/>
          </a:prstGeom>
          <a:solidFill>
            <a:schemeClr val="accent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46ca6"/>
              </a:solidFill>
              <a:latin typeface="Arial"/>
              <a:ea typeface="宋体"/>
            </a:endParaRPr>
          </a:p>
        </p:txBody>
      </p:sp>
      <p:sp>
        <p:nvSpPr>
          <p:cNvPr id="2" name="未知" hidden="1"/>
          <p:cNvSpPr/>
          <p:nvPr/>
        </p:nvSpPr>
        <p:spPr>
          <a:xfrm>
            <a:off x="0" y="950760"/>
            <a:ext cx="9150120" cy="461520"/>
          </a:xfrm>
          <a:custGeom>
            <a:avLst/>
            <a:gdLst>
              <a:gd name="textAreaLeft" fmla="*/ 0 w 9150120"/>
              <a:gd name="textAreaRight" fmla="*/ 9150480 w 9150120"/>
              <a:gd name="textAreaTop" fmla="*/ 0 h 461520"/>
              <a:gd name="textAreaBottom" fmla="*/ 461880 h 46152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chemeClr val="bg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46ca6"/>
              </a:solidFill>
              <a:latin typeface="Arial"/>
              <a:ea typeface="宋体"/>
            </a:endParaRPr>
          </a:p>
        </p:txBody>
      </p:sp>
      <p:sp>
        <p:nvSpPr>
          <p:cNvPr id="3" name="Line 8"/>
          <p:cNvSpPr/>
          <p:nvPr/>
        </p:nvSpPr>
        <p:spPr>
          <a:xfrm>
            <a:off x="425160" y="6524280"/>
            <a:ext cx="8353440" cy="360"/>
          </a:xfrm>
          <a:prstGeom prst="line">
            <a:avLst/>
          </a:prstGeom>
          <a:ln w="9525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360" cy="259920"/>
          </a:xfrm>
          <a:prstGeom prst="rect">
            <a:avLst/>
          </a:prstGeom>
          <a:ln w="0">
            <a:noFill/>
          </a:ln>
        </p:spPr>
      </p:pic>
      <p:pic>
        <p:nvPicPr>
          <p:cNvPr id="5" name="Picture 2" descr="21"/>
          <p:cNvPicPr/>
          <p:nvPr/>
        </p:nvPicPr>
        <p:blipFill>
          <a:blip r:embed="rId4"/>
          <a:stretch/>
        </p:blipFill>
        <p:spPr>
          <a:xfrm>
            <a:off x="0" y="6480"/>
            <a:ext cx="9143640" cy="6086160"/>
          </a:xfrm>
          <a:prstGeom prst="rect">
            <a:avLst/>
          </a:prstGeom>
          <a:ln w="0">
            <a:noFill/>
          </a:ln>
        </p:spPr>
      </p:pic>
      <p:sp>
        <p:nvSpPr>
          <p:cNvPr id="6" name="未知"/>
          <p:cNvSpPr/>
          <p:nvPr/>
        </p:nvSpPr>
        <p:spPr>
          <a:xfrm>
            <a:off x="0" y="1792440"/>
            <a:ext cx="9097560" cy="340920"/>
          </a:xfrm>
          <a:custGeom>
            <a:avLst/>
            <a:gdLst>
              <a:gd name="textAreaLeft" fmla="*/ 0 w 9097560"/>
              <a:gd name="textAreaRight" fmla="*/ 9097920 w 9097560"/>
              <a:gd name="textAreaTop" fmla="*/ 0 h 340920"/>
              <a:gd name="textAreaBottom" fmla="*/ 341280 h 34092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chemeClr val="bg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46ca6"/>
              </a:solidFill>
              <a:latin typeface="Arial"/>
              <a:ea typeface="宋体"/>
            </a:endParaRPr>
          </a:p>
        </p:txBody>
      </p:sp>
      <p:grpSp>
        <p:nvGrpSpPr>
          <p:cNvPr id="7" name="Group 4"/>
          <p:cNvGrpSpPr/>
          <p:nvPr/>
        </p:nvGrpSpPr>
        <p:grpSpPr>
          <a:xfrm>
            <a:off x="0" y="-360"/>
            <a:ext cx="9143640" cy="2089080"/>
            <a:chOff x="0" y="-360"/>
            <a:chExt cx="9143640" cy="2089080"/>
          </a:xfrm>
        </p:grpSpPr>
        <p:grpSp>
          <p:nvGrpSpPr>
            <p:cNvPr id="8" name="Group 5"/>
            <p:cNvGrpSpPr/>
            <p:nvPr/>
          </p:nvGrpSpPr>
          <p:grpSpPr>
            <a:xfrm>
              <a:off x="28440" y="-360"/>
              <a:ext cx="9115200" cy="1790640"/>
              <a:chOff x="28440" y="-360"/>
              <a:chExt cx="9115200" cy="1790640"/>
            </a:xfrm>
          </p:grpSpPr>
          <p:sp>
            <p:nvSpPr>
              <p:cNvPr id="9" name="Rectangle 6"/>
              <p:cNvSpPr/>
              <p:nvPr/>
            </p:nvSpPr>
            <p:spPr>
              <a:xfrm flipV="1">
                <a:off x="28440" y="-720"/>
                <a:ext cx="9115200" cy="1790280"/>
              </a:xfrm>
              <a:prstGeom prst="rect">
                <a:avLst/>
              </a:prstGeom>
              <a:solidFill>
                <a:schemeClr val="tx1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10" name="Rectangle 7"/>
              <p:cNvSpPr/>
              <p:nvPr/>
            </p:nvSpPr>
            <p:spPr>
              <a:xfrm flipV="1">
                <a:off x="28440" y="1689120"/>
                <a:ext cx="9115200" cy="100800"/>
              </a:xfrm>
              <a:prstGeom prst="rect">
                <a:avLst/>
              </a:prstGeom>
              <a:solidFill>
                <a:schemeClr val="tx1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</p:grpSp>
        <p:sp>
          <p:nvSpPr>
            <p:cNvPr id="11" name="未知"/>
            <p:cNvSpPr/>
            <p:nvPr/>
          </p:nvSpPr>
          <p:spPr>
            <a:xfrm>
              <a:off x="0" y="1733400"/>
              <a:ext cx="9097560" cy="355320"/>
            </a:xfrm>
            <a:custGeom>
              <a:avLst/>
              <a:gdLst>
                <a:gd name="textAreaLeft" fmla="*/ 0 w 9097560"/>
                <a:gd name="textAreaRight" fmla="*/ 9097920 w 9097560"/>
                <a:gd name="textAreaTop" fmla="*/ 0 h 355320"/>
                <a:gd name="textAreaBottom" fmla="*/ 355680 h 35532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46ca6"/>
                </a:solidFill>
                <a:latin typeface="Arial"/>
                <a:ea typeface="宋体"/>
              </a:endParaRPr>
            </a:p>
          </p:txBody>
        </p:sp>
      </p:grpSp>
      <p:grpSp>
        <p:nvGrpSpPr>
          <p:cNvPr id="12" name="Group 9"/>
          <p:cNvGrpSpPr/>
          <p:nvPr/>
        </p:nvGrpSpPr>
        <p:grpSpPr>
          <a:xfrm>
            <a:off x="0" y="4689000"/>
            <a:ext cx="9143640" cy="2168640"/>
            <a:chOff x="0" y="4689000"/>
            <a:chExt cx="9143640" cy="2168640"/>
          </a:xfrm>
        </p:grpSpPr>
        <p:grpSp>
          <p:nvGrpSpPr>
            <p:cNvPr id="13" name="Group 10"/>
            <p:cNvGrpSpPr/>
            <p:nvPr/>
          </p:nvGrpSpPr>
          <p:grpSpPr>
            <a:xfrm>
              <a:off x="28440" y="5042160"/>
              <a:ext cx="9115200" cy="1815480"/>
              <a:chOff x="28440" y="5042160"/>
              <a:chExt cx="9115200" cy="1815480"/>
            </a:xfrm>
          </p:grpSpPr>
          <p:sp>
            <p:nvSpPr>
              <p:cNvPr id="14" name="Rectangle 11"/>
              <p:cNvSpPr/>
              <p:nvPr/>
            </p:nvSpPr>
            <p:spPr>
              <a:xfrm>
                <a:off x="28440" y="5042160"/>
                <a:ext cx="9115200" cy="1815480"/>
              </a:xfrm>
              <a:prstGeom prst="rect">
                <a:avLst/>
              </a:prstGeom>
              <a:solidFill>
                <a:schemeClr val="accent1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15" name="Rectangle 12"/>
              <p:cNvSpPr/>
              <p:nvPr/>
            </p:nvSpPr>
            <p:spPr>
              <a:xfrm>
                <a:off x="28440" y="5042160"/>
                <a:ext cx="9115200" cy="101520"/>
              </a:xfrm>
              <a:prstGeom prst="rect">
                <a:avLst/>
              </a:prstGeom>
              <a:solidFill>
                <a:schemeClr val="accent1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</p:grpSp>
        <p:grpSp>
          <p:nvGrpSpPr>
            <p:cNvPr id="16" name="Group 13"/>
            <p:cNvGrpSpPr/>
            <p:nvPr/>
          </p:nvGrpSpPr>
          <p:grpSpPr>
            <a:xfrm>
              <a:off x="0" y="4689000"/>
              <a:ext cx="9097560" cy="405360"/>
              <a:chOff x="0" y="4689000"/>
              <a:chExt cx="9097560" cy="405360"/>
            </a:xfrm>
          </p:grpSpPr>
          <p:sp>
            <p:nvSpPr>
              <p:cNvPr id="17" name="未知"/>
              <p:cNvSpPr/>
              <p:nvPr/>
            </p:nvSpPr>
            <p:spPr>
              <a:xfrm flipV="1">
                <a:off x="0" y="4688280"/>
                <a:ext cx="9097560" cy="345960"/>
              </a:xfrm>
              <a:custGeom>
                <a:avLst/>
                <a:gdLst>
                  <a:gd name="textAreaLeft" fmla="*/ 0 w 9097560"/>
                  <a:gd name="textAreaRight" fmla="*/ 9097920 w 9097560"/>
                  <a:gd name="textAreaTop" fmla="*/ -360 h 345960"/>
                  <a:gd name="textAreaBottom" fmla="*/ 345960 h 34596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1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18" name="未知"/>
              <p:cNvSpPr/>
              <p:nvPr/>
            </p:nvSpPr>
            <p:spPr>
              <a:xfrm flipV="1">
                <a:off x="0" y="4733280"/>
                <a:ext cx="9097560" cy="360360"/>
              </a:xfrm>
              <a:custGeom>
                <a:avLst/>
                <a:gdLst>
                  <a:gd name="textAreaLeft" fmla="*/ 0 w 9097560"/>
                  <a:gd name="textAreaRight" fmla="*/ 9097920 w 9097560"/>
                  <a:gd name="textAreaTop" fmla="*/ -360 h 360360"/>
                  <a:gd name="textAreaBottom" fmla="*/ 360360 h 36036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chemeClr val="accent1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</p:grpSp>
      </p:grpSp>
      <p:grpSp>
        <p:nvGrpSpPr>
          <p:cNvPr id="1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20" name="AutoShape 17"/>
            <p:cNvSpPr/>
            <p:nvPr/>
          </p:nvSpPr>
          <p:spPr>
            <a:xfrm>
              <a:off x="42840" y="38160"/>
              <a:ext cx="9062640" cy="6781320"/>
            </a:xfrm>
            <a:prstGeom prst="roundRect">
              <a:avLst>
                <a:gd name="adj" fmla="val 6227"/>
              </a:avLst>
            </a:prstGeom>
            <a:noFill/>
            <a:ln w="762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46ca6"/>
                </a:solidFill>
                <a:latin typeface="Arial"/>
                <a:ea typeface="宋体"/>
              </a:endParaRPr>
            </a:p>
          </p:txBody>
        </p:sp>
        <p:sp>
          <p:nvSpPr>
            <p:cNvPr id="21" name="未知"/>
            <p:cNvSpPr/>
            <p:nvPr/>
          </p:nvSpPr>
          <p:spPr>
            <a:xfrm>
              <a:off x="4680" y="0"/>
              <a:ext cx="456840" cy="456840"/>
            </a:xfrm>
            <a:custGeom>
              <a:avLst/>
              <a:gdLst>
                <a:gd name="textAreaLeft" fmla="*/ 0 w 456840"/>
                <a:gd name="textAreaRight" fmla="*/ 457200 w 456840"/>
                <a:gd name="textAreaTop" fmla="*/ 0 h 456840"/>
                <a:gd name="textAreaBottom" fmla="*/ 457200 h 45684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chemeClr val="bg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46ca6"/>
                </a:solidFill>
                <a:latin typeface="Arial"/>
                <a:ea typeface="宋体"/>
              </a:endParaRPr>
            </a:p>
          </p:txBody>
        </p:sp>
        <p:sp>
          <p:nvSpPr>
            <p:cNvPr id="22" name="未知"/>
            <p:cNvSpPr/>
            <p:nvPr/>
          </p:nvSpPr>
          <p:spPr>
            <a:xfrm rot="16191600">
              <a:off x="-74520" y="6397920"/>
              <a:ext cx="533160" cy="383760"/>
            </a:xfrm>
            <a:custGeom>
              <a:avLst/>
              <a:gdLst>
                <a:gd name="textAreaLeft" fmla="*/ 0 w 533160"/>
                <a:gd name="textAreaRight" fmla="*/ 533520 w 533160"/>
                <a:gd name="textAreaTop" fmla="*/ 0 h 383760"/>
                <a:gd name="textAreaBottom" fmla="*/ 384120 h 38376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chemeClr val="bg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46ca6"/>
                </a:solidFill>
                <a:latin typeface="Arial"/>
                <a:ea typeface="宋体"/>
              </a:endParaRPr>
            </a:p>
          </p:txBody>
        </p:sp>
        <p:sp>
          <p:nvSpPr>
            <p:cNvPr id="23" name="未知"/>
            <p:cNvSpPr/>
            <p:nvPr/>
          </p:nvSpPr>
          <p:spPr>
            <a:xfrm>
              <a:off x="8763120" y="6315120"/>
              <a:ext cx="380520" cy="552240"/>
            </a:xfrm>
            <a:custGeom>
              <a:avLst/>
              <a:gdLst>
                <a:gd name="textAreaLeft" fmla="*/ 0 w 380520"/>
                <a:gd name="textAreaRight" fmla="*/ 380880 w 380520"/>
                <a:gd name="textAreaTop" fmla="*/ 0 h 552240"/>
                <a:gd name="textAreaBottom" fmla="*/ 55260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chemeClr val="bg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46ca6"/>
                </a:solidFill>
                <a:latin typeface="Arial"/>
                <a:ea typeface="宋体"/>
              </a:endParaRPr>
            </a:p>
          </p:txBody>
        </p:sp>
        <p:sp>
          <p:nvSpPr>
            <p:cNvPr id="24" name="未知"/>
            <p:cNvSpPr/>
            <p:nvPr/>
          </p:nvSpPr>
          <p:spPr>
            <a:xfrm rot="5400000">
              <a:off x="8687160" y="0"/>
              <a:ext cx="456840" cy="456840"/>
            </a:xfrm>
            <a:custGeom>
              <a:avLst/>
              <a:gdLst>
                <a:gd name="textAreaLeft" fmla="*/ 0 w 456840"/>
                <a:gd name="textAreaRight" fmla="*/ 457200 w 456840"/>
                <a:gd name="textAreaTop" fmla="*/ 0 h 456840"/>
                <a:gd name="textAreaBottom" fmla="*/ 457200 h 45684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chemeClr val="bg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46ca6"/>
                </a:solidFill>
                <a:latin typeface="Arial"/>
                <a:ea typeface="宋体"/>
              </a:endParaRPr>
            </a:p>
          </p:txBody>
        </p:sp>
      </p:grpSp>
      <p:pic>
        <p:nvPicPr>
          <p:cNvPr id="25" name="Picture 24" descr=""/>
          <p:cNvPicPr/>
          <p:nvPr/>
        </p:nvPicPr>
        <p:blipFill>
          <a:blip r:embed="rId5"/>
          <a:stretch/>
        </p:blipFill>
        <p:spPr>
          <a:xfrm>
            <a:off x="324000" y="333360"/>
            <a:ext cx="6479640" cy="1037880"/>
          </a:xfrm>
          <a:prstGeom prst="rect">
            <a:avLst/>
          </a:prstGeom>
          <a:ln w="0">
            <a:noFill/>
          </a:ln>
        </p:spPr>
      </p:pic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4000" y="2276640"/>
            <a:ext cx="5181120" cy="2285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单击此处编辑母版标题样式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800" spc="-1" strike="noStrike">
                <a:solidFill>
                  <a:schemeClr val="accent1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200" spc="-1" strike="noStrike">
                <a:solidFill>
                  <a:srgbClr val="046ca6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3640" cy="10472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3"/>
          <p:cNvSpPr/>
          <p:nvPr/>
        </p:nvSpPr>
        <p:spPr>
          <a:xfrm>
            <a:off x="0" y="0"/>
            <a:ext cx="9143640" cy="240840"/>
          </a:xfrm>
          <a:prstGeom prst="rect">
            <a:avLst/>
          </a:prstGeom>
          <a:solidFill>
            <a:schemeClr val="accent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46ca6"/>
              </a:solidFill>
              <a:latin typeface="Arial"/>
              <a:ea typeface="宋体"/>
            </a:endParaRPr>
          </a:p>
        </p:txBody>
      </p:sp>
      <p:sp>
        <p:nvSpPr>
          <p:cNvPr id="66" name="未知"/>
          <p:cNvSpPr/>
          <p:nvPr/>
        </p:nvSpPr>
        <p:spPr>
          <a:xfrm>
            <a:off x="0" y="950760"/>
            <a:ext cx="9150120" cy="461520"/>
          </a:xfrm>
          <a:custGeom>
            <a:avLst/>
            <a:gdLst>
              <a:gd name="textAreaLeft" fmla="*/ 0 w 9150120"/>
              <a:gd name="textAreaRight" fmla="*/ 9150480 w 9150120"/>
              <a:gd name="textAreaTop" fmla="*/ 0 h 461520"/>
              <a:gd name="textAreaBottom" fmla="*/ 461880 h 46152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chemeClr val="bg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46ca6"/>
              </a:solidFill>
              <a:latin typeface="Arial"/>
              <a:ea typeface="宋体"/>
            </a:endParaRPr>
          </a:p>
        </p:txBody>
      </p:sp>
      <p:sp>
        <p:nvSpPr>
          <p:cNvPr id="67" name="Line 8"/>
          <p:cNvSpPr/>
          <p:nvPr/>
        </p:nvSpPr>
        <p:spPr>
          <a:xfrm>
            <a:off x="425160" y="6524280"/>
            <a:ext cx="8353440" cy="360"/>
          </a:xfrm>
          <a:prstGeom prst="line">
            <a:avLst/>
          </a:prstGeom>
          <a:ln w="9525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6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360" cy="25992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单击此处编辑母版标题样式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chemeClr val="accent1"/>
                </a:solidFill>
                <a:latin typeface="Verdana"/>
              </a:rPr>
              <a:t>单击此处编辑母版文本样式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第二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</a:rPr>
              <a:t>第三级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46ca6"/>
              </a:buClr>
              <a:buFont typeface="Symbol" charset="2"/>
              <a:buChar char=""/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</a:rPr>
              <a:t>第四级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46ca6"/>
              </a:buClr>
              <a:buFont typeface="StarSymbol"/>
              <a:buChar char="»"/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</a:rPr>
              <a:t>第五级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sldNum" idx="1"/>
          </p:nvPr>
        </p:nvSpPr>
        <p:spPr>
          <a:xfrm>
            <a:off x="3429000" y="6477120"/>
            <a:ext cx="2133360" cy="307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C1623303-DE04-4A4E-8174-478FA55640D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dt" idx="2"/>
          </p:nvPr>
        </p:nvSpPr>
        <p:spPr>
          <a:xfrm>
            <a:off x="6248520" y="0"/>
            <a:ext cx="2666520" cy="228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3640" cy="104724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3"/>
          <p:cNvSpPr/>
          <p:nvPr/>
        </p:nvSpPr>
        <p:spPr>
          <a:xfrm>
            <a:off x="0" y="0"/>
            <a:ext cx="9143640" cy="240840"/>
          </a:xfrm>
          <a:prstGeom prst="rect">
            <a:avLst/>
          </a:prstGeom>
          <a:solidFill>
            <a:schemeClr val="accent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46ca6"/>
              </a:solidFill>
              <a:latin typeface="Arial"/>
              <a:ea typeface="宋体"/>
            </a:endParaRPr>
          </a:p>
        </p:txBody>
      </p:sp>
      <p:sp>
        <p:nvSpPr>
          <p:cNvPr id="111" name="未知"/>
          <p:cNvSpPr/>
          <p:nvPr/>
        </p:nvSpPr>
        <p:spPr>
          <a:xfrm>
            <a:off x="0" y="950760"/>
            <a:ext cx="9150120" cy="461520"/>
          </a:xfrm>
          <a:custGeom>
            <a:avLst/>
            <a:gdLst>
              <a:gd name="textAreaLeft" fmla="*/ 0 w 9150120"/>
              <a:gd name="textAreaRight" fmla="*/ 9150480 w 9150120"/>
              <a:gd name="textAreaTop" fmla="*/ 0 h 461520"/>
              <a:gd name="textAreaBottom" fmla="*/ 461880 h 46152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chemeClr val="bg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46ca6"/>
              </a:solidFill>
              <a:latin typeface="Arial"/>
              <a:ea typeface="宋体"/>
            </a:endParaRPr>
          </a:p>
        </p:txBody>
      </p:sp>
      <p:sp>
        <p:nvSpPr>
          <p:cNvPr id="112" name="Line 8"/>
          <p:cNvSpPr/>
          <p:nvPr/>
        </p:nvSpPr>
        <p:spPr>
          <a:xfrm>
            <a:off x="425160" y="6524280"/>
            <a:ext cx="8353440" cy="360"/>
          </a:xfrm>
          <a:prstGeom prst="line">
            <a:avLst/>
          </a:prstGeom>
          <a:ln w="9525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3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360" cy="2599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sldNum" idx="3"/>
          </p:nvPr>
        </p:nvSpPr>
        <p:spPr>
          <a:xfrm>
            <a:off x="3429000" y="6477120"/>
            <a:ext cx="2133360" cy="307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29D4CB9F-03F1-435F-A36B-76182E77AA3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dt" idx="4"/>
          </p:nvPr>
        </p:nvSpPr>
        <p:spPr>
          <a:xfrm>
            <a:off x="6248520" y="0"/>
            <a:ext cx="2666520" cy="228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3200" spc="-1" strike="noStrike">
                <a:solidFill>
                  <a:srgbClr val="046ca6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800" spc="-1" strike="noStrike">
                <a:solidFill>
                  <a:schemeClr val="accent1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200" spc="-1" strike="noStrike">
                <a:solidFill>
                  <a:srgbClr val="046ca6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24000" y="2276640"/>
            <a:ext cx="5181120" cy="2285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急性中毒患者的救护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120" cy="5331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 algn="ctr"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Num" idx="15"/>
          </p:nvPr>
        </p:nvSpPr>
        <p:spPr>
          <a:xfrm>
            <a:off x="4572000" y="6524640"/>
            <a:ext cx="1152000" cy="333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E77D2DC4-A59F-4346-8918-CDB01B196D3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5800" cy="8568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755640" y="1413000"/>
            <a:ext cx="8208720" cy="48034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2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三、促进已吸收毒物的排出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marL="45720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一）利尿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静脉补液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利尿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调节尿液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pH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值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4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Num" idx="16"/>
          </p:nvPr>
        </p:nvSpPr>
        <p:spPr>
          <a:xfrm>
            <a:off x="4427640" y="6524640"/>
            <a:ext cx="914040" cy="333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E8E59664-1453-4EA2-9B67-5D2995DD416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5800" cy="8568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179280" y="1413000"/>
            <a:ext cx="8784720" cy="48034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45720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二）吸氧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45720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三）血液净化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透析疗法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血液灌流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血浆置换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4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Num" idx="17"/>
          </p:nvPr>
        </p:nvSpPr>
        <p:spPr>
          <a:xfrm>
            <a:off x="4500720" y="6524640"/>
            <a:ext cx="914040" cy="333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FE548E41-0DF7-4050-A411-3EE71672C6F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5800" cy="8568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640" y="1341360"/>
            <a:ext cx="8496720" cy="48747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2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四、特效解毒剂的应用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marL="45720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一）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高铁血红蛋白血症解毒剂</a:t>
            </a: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小剂量亚甲蓝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可使高铁血红蛋白还原为正常的血红蛋白，可用于亚硝酸盐、硝基苯、苯胺等中毒引起的高铁血红蛋白血症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4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Num" idx="18"/>
          </p:nvPr>
        </p:nvSpPr>
        <p:spPr>
          <a:xfrm>
            <a:off x="4716360" y="6524640"/>
            <a:ext cx="914040" cy="333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4D1CD701-BBC7-4382-A762-9B1D5DD7CAE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5800" cy="8568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71280" y="1341360"/>
            <a:ext cx="8678520" cy="48747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457200" indent="0">
              <a:lnSpc>
                <a:spcPct val="15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二）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金属中毒解毒剂</a:t>
            </a: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依地酸钙钠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：为最常用的氨酸螯合剂，适用于铅、锰、铜、镉中毒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二巯基丙醇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：为最常用的巯基螯合剂，适用于砷、汞、金、锑中毒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二巯基丁二酸钠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：为广谱金属解毒剂，适用于铅、汞、银、铜、砷、锑、镍等金属中毒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4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Num" idx="19"/>
          </p:nvPr>
        </p:nvSpPr>
        <p:spPr>
          <a:xfrm>
            <a:off x="4356000" y="6524640"/>
            <a:ext cx="1079280" cy="333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212C1BC2-4920-4F31-9514-BD3DA850360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5800" cy="8568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0" y="1341360"/>
            <a:ext cx="8964360" cy="48747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45720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三）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中枢神经系统抑制剂解毒剂</a:t>
            </a: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纳洛酮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：为吗啡受体拮抗剂，是阿片类麻醉药的解毒剂，对麻醉镇痛引起的呼吸抑制有特异的拮抗作用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氟马西尼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：苯二氮䓬类药物中毒的拮抗剂，用于地西泮、氯氮䓬等中毒的治疗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4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Num" idx="20"/>
          </p:nvPr>
        </p:nvSpPr>
        <p:spPr>
          <a:xfrm>
            <a:off x="4572000" y="6524640"/>
            <a:ext cx="1007640" cy="333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7E434949-4138-4547-8B8E-F6EC5842105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5800" cy="8568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0" y="1341360"/>
            <a:ext cx="8964360" cy="48747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457200" indent="0">
              <a:lnSpc>
                <a:spcPct val="200000"/>
              </a:lnSpc>
              <a:spcBef>
                <a:spcPts val="439"/>
              </a:spcBef>
              <a:buNone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四）有机磷杀虫药中毒解毒剂</a:t>
            </a: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常用的有阿托品、解磷定、酸戊已奎醚注射液（长托宁）等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457200" indent="0">
              <a:lnSpc>
                <a:spcPct val="200000"/>
              </a:lnSpc>
              <a:spcBef>
                <a:spcPts val="439"/>
              </a:spcBef>
              <a:buNone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五）氰化物中毒解毒剂</a:t>
            </a: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一般采用亚硝酸盐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硫代硫酸钠疗法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1" lang="en-US" sz="20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1" lang="en-US" sz="20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4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Num" idx="21"/>
          </p:nvPr>
        </p:nvSpPr>
        <p:spPr>
          <a:xfrm>
            <a:off x="4500720" y="6524640"/>
            <a:ext cx="914040" cy="333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25F29D71-BD6E-4FD4-B726-6B757B8A111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5800" cy="8568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640" y="1341360"/>
            <a:ext cx="8425440" cy="48747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2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五、对症治疗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743040" indent="-285840">
              <a:lnSpc>
                <a:spcPct val="200000"/>
              </a:lnSpc>
              <a:spcBef>
                <a:spcPts val="43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大多数急性中毒并无特效解毒剂，或短时间内很难明确毒物的种类和性质，因此对症支持治疗非常重要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200000"/>
              </a:lnSpc>
              <a:spcBef>
                <a:spcPts val="43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另外，还应采取积极措施维护心、脑、肺、肝、肾等重要脏器功能，防治并发症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4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用的中毒抢救技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57120" y="150012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2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、催吐术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2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2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二、洗胃技术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sldNum" idx="22"/>
          </p:nvPr>
        </p:nvSpPr>
        <p:spPr>
          <a:xfrm>
            <a:off x="3429000" y="6477120"/>
            <a:ext cx="2133360" cy="307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20C3819B-0FED-4CB6-8D09-A36EE9F9120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用的中毒抢救技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57120" y="1413000"/>
            <a:ext cx="8610120" cy="4963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、催吐术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marL="457200" indent="0">
              <a:lnSpc>
                <a:spcPct val="140000"/>
              </a:lnSpc>
              <a:spcBef>
                <a:spcPts val="439"/>
              </a:spcBef>
              <a:buNone/>
              <a:tabLst>
                <a:tab algn="l" pos="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（一）适应证</a:t>
            </a: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适用于神志清醒且能合作的非腐蚀性毒物中毒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457200" indent="0">
              <a:lnSpc>
                <a:spcPct val="140000"/>
              </a:lnSpc>
              <a:spcBef>
                <a:spcPts val="439"/>
              </a:spcBef>
              <a:buNone/>
              <a:tabLst>
                <a:tab algn="l" pos="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（二）禁忌证</a:t>
            </a: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昏迷、惊厥状态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腐蚀性毒物中毒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食管胃底静脉曲张、主动脉瘤、消化性溃疡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休克、高血压、肺水肿、冠心病、妊娠、年老体弱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饮用汽油、柴油、煤油等石油蒸馏物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sldNum" idx="23"/>
          </p:nvPr>
        </p:nvSpPr>
        <p:spPr>
          <a:xfrm>
            <a:off x="3429000" y="6477120"/>
            <a:ext cx="2133360" cy="307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0C96FD04-C0EC-4967-97A9-01687D6BE43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用的中毒抢救技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250920" y="1500120"/>
            <a:ext cx="871668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457200" indent="0">
              <a:lnSpc>
                <a:spcPct val="140000"/>
              </a:lnSpc>
              <a:spcBef>
                <a:spcPts val="439"/>
              </a:spcBef>
              <a:buNone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三）方法</a:t>
            </a: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机械催吐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药物催吐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sldNum" idx="24"/>
          </p:nvPr>
        </p:nvSpPr>
        <p:spPr>
          <a:xfrm>
            <a:off x="3429000" y="6477120"/>
            <a:ext cx="2133360" cy="307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8DDC5B1F-CE1C-4698-BFE3-ADF4FE6A0E7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660360" y="285840"/>
            <a:ext cx="2232000" cy="7855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2843280" y="2061000"/>
            <a:ext cx="3960360" cy="3695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711360" indent="0" algn="ctr">
              <a:lnSpc>
                <a:spcPct val="200000"/>
              </a:lnSpc>
              <a:spcBef>
                <a:spcPts val="241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急性中毒的基本救治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241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常用的中毒抢救技术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241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常见急性中毒患者的救护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</p:txBody>
      </p:sp>
      <p:grpSp>
        <p:nvGrpSpPr>
          <p:cNvPr id="164" name="Group 4"/>
          <p:cNvGrpSpPr/>
          <p:nvPr/>
        </p:nvGrpSpPr>
        <p:grpSpPr>
          <a:xfrm>
            <a:off x="1819440" y="2219400"/>
            <a:ext cx="688680" cy="593280"/>
            <a:chOff x="1819440" y="2219400"/>
            <a:chExt cx="688680" cy="593280"/>
          </a:xfrm>
        </p:grpSpPr>
        <p:sp>
          <p:nvSpPr>
            <p:cNvPr id="165" name="AutoShape 5"/>
            <p:cNvSpPr/>
            <p:nvPr/>
          </p:nvSpPr>
          <p:spPr>
            <a:xfrm>
              <a:off x="1825200" y="2229480"/>
              <a:ext cx="682920" cy="583200"/>
            </a:xfrm>
            <a:prstGeom prst="hexagon">
              <a:avLst>
                <a:gd name="adj" fmla="val 28916"/>
                <a:gd name="vf" fmla="val 115470"/>
              </a:avLst>
            </a:prstGeom>
            <a:gradFill rotWithShape="0">
              <a:gsLst>
                <a:gs pos="0">
                  <a:srgbClr val="ccffcc"/>
                </a:gs>
                <a:gs pos="100000">
                  <a:srgbClr val="5e765e"/>
                </a:gs>
              </a:gsLst>
              <a:path path="rect">
                <a:fillToRect l="100000" t="100000" r="0" b="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46ca6"/>
                </a:solidFill>
                <a:latin typeface="Arial"/>
                <a:ea typeface="宋体"/>
              </a:endParaRPr>
            </a:p>
          </p:txBody>
        </p:sp>
        <p:sp>
          <p:nvSpPr>
            <p:cNvPr id="166" name="AutoShape 6"/>
            <p:cNvSpPr/>
            <p:nvPr/>
          </p:nvSpPr>
          <p:spPr>
            <a:xfrm>
              <a:off x="1819440" y="2219400"/>
              <a:ext cx="682920" cy="583200"/>
            </a:xfrm>
            <a:prstGeom prst="hexagon">
              <a:avLst>
                <a:gd name="adj" fmla="val 28916"/>
                <a:gd name="vf" fmla="val 115470"/>
              </a:avLst>
            </a:prstGeom>
            <a:gradFill rotWithShape="0">
              <a:gsLst>
                <a:gs pos="0">
                  <a:srgbClr val="ccffcc"/>
                </a:gs>
                <a:gs pos="100000">
                  <a:srgbClr val="5e765e"/>
                </a:gs>
              </a:gsLst>
              <a:path path="rect">
                <a:fillToRect l="100000" t="100000" r="0" b="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46ca6"/>
                </a:solidFill>
                <a:latin typeface="Arial"/>
                <a:ea typeface="宋体"/>
              </a:endParaRPr>
            </a:p>
          </p:txBody>
        </p:sp>
        <p:sp>
          <p:nvSpPr>
            <p:cNvPr id="167" name="AutoShape 7"/>
            <p:cNvSpPr/>
            <p:nvPr/>
          </p:nvSpPr>
          <p:spPr>
            <a:xfrm>
              <a:off x="1859400" y="2254320"/>
              <a:ext cx="600120" cy="513000"/>
            </a:xfrm>
            <a:prstGeom prst="hexagon">
              <a:avLst>
                <a:gd name="adj" fmla="val 28896"/>
                <a:gd name="vf" fmla="val 115470"/>
              </a:avLst>
            </a:prstGeom>
            <a:gradFill rotWithShape="0">
              <a:gsLst>
                <a:gs pos="0">
                  <a:srgbClr val="ccffcc"/>
                </a:gs>
                <a:gs pos="100000">
                  <a:srgbClr val="5e765e"/>
                </a:gs>
              </a:gsLst>
              <a:path path="rect">
                <a:fillToRect l="100000" t="100000" r="0" b="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46ca6"/>
                </a:solidFill>
                <a:latin typeface="Arial"/>
                <a:ea typeface="宋体"/>
              </a:endParaRPr>
            </a:p>
          </p:txBody>
        </p:sp>
      </p:grpSp>
      <p:sp>
        <p:nvSpPr>
          <p:cNvPr id="168" name="Text Box 8"/>
          <p:cNvSpPr/>
          <p:nvPr/>
        </p:nvSpPr>
        <p:spPr>
          <a:xfrm>
            <a:off x="1990800" y="2276640"/>
            <a:ext cx="315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9"/>
          <p:cNvSpPr/>
          <p:nvPr/>
        </p:nvSpPr>
        <p:spPr>
          <a:xfrm>
            <a:off x="1819440" y="2981160"/>
            <a:ext cx="686880" cy="593280"/>
          </a:xfrm>
          <a:prstGeom prst="hexagon">
            <a:avLst>
              <a:gd name="adj" fmla="val 28944"/>
              <a:gd name="vf" fmla="val 115470"/>
            </a:avLst>
          </a:prstGeom>
          <a:gradFill rotWithShape="0">
            <a:gsLst>
              <a:gs pos="0">
                <a:srgbClr val="3f5c66"/>
              </a:gs>
              <a:gs pos="100000">
                <a:srgbClr val="8ac8de"/>
              </a:gs>
            </a:gsLst>
            <a:lin ang="27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46ca6"/>
              </a:solidFill>
              <a:latin typeface="Arial"/>
              <a:ea typeface="宋体"/>
            </a:endParaRPr>
          </a:p>
        </p:txBody>
      </p:sp>
      <p:sp>
        <p:nvSpPr>
          <p:cNvPr id="170" name="Text Box 10"/>
          <p:cNvSpPr/>
          <p:nvPr/>
        </p:nvSpPr>
        <p:spPr>
          <a:xfrm>
            <a:off x="1954080" y="3063960"/>
            <a:ext cx="353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" name="Group 11"/>
          <p:cNvGrpSpPr/>
          <p:nvPr/>
        </p:nvGrpSpPr>
        <p:grpSpPr>
          <a:xfrm>
            <a:off x="1803240" y="3749760"/>
            <a:ext cx="686880" cy="593280"/>
            <a:chOff x="1803240" y="3749760"/>
            <a:chExt cx="686880" cy="593280"/>
          </a:xfrm>
        </p:grpSpPr>
        <p:sp>
          <p:nvSpPr>
            <p:cNvPr id="172" name="AutoShape 12"/>
            <p:cNvSpPr/>
            <p:nvPr/>
          </p:nvSpPr>
          <p:spPr>
            <a:xfrm>
              <a:off x="1809000" y="3759840"/>
              <a:ext cx="681120" cy="583200"/>
            </a:xfrm>
            <a:prstGeom prst="hexagon">
              <a:avLst>
                <a:gd name="adj" fmla="val 28916"/>
                <a:gd name="vf" fmla="val 115470"/>
              </a:avLst>
            </a:prstGeom>
            <a:gradFill rotWithShape="0">
              <a:gsLst>
                <a:gs pos="0">
                  <a:srgbClr val="66ccff"/>
                </a:gs>
                <a:gs pos="100000">
                  <a:srgbClr val="2f5e76"/>
                </a:gs>
              </a:gsLst>
              <a:path path="rect">
                <a:fillToRect l="100000" t="100000" r="0" b="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46ca6"/>
                </a:solidFill>
                <a:latin typeface="Arial"/>
                <a:ea typeface="宋体"/>
              </a:endParaRPr>
            </a:p>
          </p:txBody>
        </p:sp>
        <p:sp>
          <p:nvSpPr>
            <p:cNvPr id="173" name="AutoShape 13"/>
            <p:cNvSpPr/>
            <p:nvPr/>
          </p:nvSpPr>
          <p:spPr>
            <a:xfrm>
              <a:off x="1803240" y="3749760"/>
              <a:ext cx="681120" cy="583200"/>
            </a:xfrm>
            <a:prstGeom prst="hexagon">
              <a:avLst>
                <a:gd name="adj" fmla="val 28916"/>
                <a:gd name="vf" fmla="val 115470"/>
              </a:avLst>
            </a:prstGeom>
            <a:gradFill rotWithShape="0">
              <a:gsLst>
                <a:gs pos="0">
                  <a:srgbClr val="66ccff"/>
                </a:gs>
                <a:gs pos="100000">
                  <a:srgbClr val="2f5e76"/>
                </a:gs>
              </a:gsLst>
              <a:path path="rect">
                <a:fillToRect l="100000" t="100000" r="0" b="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46ca6"/>
                </a:solidFill>
                <a:latin typeface="Arial"/>
                <a:ea typeface="宋体"/>
              </a:endParaRPr>
            </a:p>
          </p:txBody>
        </p:sp>
        <p:sp>
          <p:nvSpPr>
            <p:cNvPr id="174" name="AutoShape 14"/>
            <p:cNvSpPr/>
            <p:nvPr/>
          </p:nvSpPr>
          <p:spPr>
            <a:xfrm>
              <a:off x="1843200" y="3784680"/>
              <a:ext cx="598680" cy="513000"/>
            </a:xfrm>
            <a:prstGeom prst="hexagon">
              <a:avLst>
                <a:gd name="adj" fmla="val 28896"/>
                <a:gd name="vf" fmla="val 115470"/>
              </a:avLst>
            </a:prstGeom>
            <a:gradFill rotWithShape="0">
              <a:gsLst>
                <a:gs pos="0">
                  <a:srgbClr val="66ccff"/>
                </a:gs>
                <a:gs pos="100000">
                  <a:srgbClr val="2f5e76"/>
                </a:gs>
              </a:gsLst>
              <a:path path="rect">
                <a:fillToRect l="100000" t="100000" r="0" b="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46ca6"/>
                </a:solidFill>
                <a:latin typeface="Arial"/>
                <a:ea typeface="宋体"/>
              </a:endParaRPr>
            </a:p>
          </p:txBody>
        </p:sp>
      </p:grpSp>
      <p:sp>
        <p:nvSpPr>
          <p:cNvPr id="175" name="Text Box 15"/>
          <p:cNvSpPr/>
          <p:nvPr/>
        </p:nvSpPr>
        <p:spPr>
          <a:xfrm>
            <a:off x="1971720" y="3825720"/>
            <a:ext cx="3520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18"/>
          <p:cNvSpPr/>
          <p:nvPr/>
        </p:nvSpPr>
        <p:spPr>
          <a:xfrm>
            <a:off x="2555640" y="2781000"/>
            <a:ext cx="4800600" cy="360"/>
          </a:xfrm>
          <a:prstGeom prst="line">
            <a:avLst/>
          </a:prstGeom>
          <a:ln w="25400">
            <a:solidFill>
              <a:srgbClr val="c0c0c0"/>
            </a:solidFill>
            <a:prstDash val="sysDot"/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Line 19"/>
          <p:cNvSpPr/>
          <p:nvPr/>
        </p:nvSpPr>
        <p:spPr>
          <a:xfrm>
            <a:off x="2555640" y="3573360"/>
            <a:ext cx="4800600" cy="360"/>
          </a:xfrm>
          <a:prstGeom prst="line">
            <a:avLst/>
          </a:prstGeom>
          <a:ln w="25400">
            <a:solidFill>
              <a:srgbClr val="c0c0c0"/>
            </a:solidFill>
            <a:prstDash val="sysDot"/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Line 20"/>
          <p:cNvSpPr/>
          <p:nvPr/>
        </p:nvSpPr>
        <p:spPr>
          <a:xfrm>
            <a:off x="2555640" y="4365360"/>
            <a:ext cx="4800600" cy="360"/>
          </a:xfrm>
          <a:prstGeom prst="line">
            <a:avLst/>
          </a:prstGeom>
          <a:ln w="25400">
            <a:solidFill>
              <a:srgbClr val="c0c0c0"/>
            </a:solidFill>
            <a:prstDash val="sysDot"/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用的中毒抢救技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891504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457200" indent="0">
              <a:lnSpc>
                <a:spcPct val="140000"/>
              </a:lnSpc>
              <a:spcBef>
                <a:spcPts val="439"/>
              </a:spcBef>
              <a:buNone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四）注意事项</a:t>
            </a: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急性中毒者，应迅速采用口服催吐法，必要时进行洗胃，减少毒物的吸收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当呕吐发生时，患者采取左侧卧位，头部放低，面向左侧，臀部略抬高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幼儿应俯卧，头向下，臀部略抬高，以防止呕吐物吸入气管发生窒息或引起肺炎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用的中毒抢救技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250920" y="1500120"/>
            <a:ext cx="853560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二、洗胃技术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marL="457200" indent="0">
              <a:lnSpc>
                <a:spcPct val="140000"/>
              </a:lnSpc>
              <a:spcBef>
                <a:spcPts val="439"/>
              </a:spcBef>
              <a:buNone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一）适应证</a:t>
            </a: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口服毒物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  <a:ea typeface="宋体"/>
              </a:rPr>
              <a:t>6h</a:t>
            </a:r>
            <a:r>
              <a:rPr b="1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内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洗胃效果最好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非腐蚀性毒物中毒，如镇静催眠药、有机磷杀虫剂、生物碱、重金属类及食物中毒等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幽门梗阻伴有明显胃潴留扩张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sldNum" idx="25"/>
          </p:nvPr>
        </p:nvSpPr>
        <p:spPr>
          <a:xfrm>
            <a:off x="3429000" y="6477120"/>
            <a:ext cx="2133360" cy="307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AA92867B-C051-4541-AE7F-4AEB0B80CD0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用的中毒抢救技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0" y="1500120"/>
            <a:ext cx="896760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457200" indent="0">
              <a:lnSpc>
                <a:spcPct val="140000"/>
              </a:lnSpc>
              <a:spcBef>
                <a:spcPts val="439"/>
              </a:spcBef>
              <a:buNone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二）禁忌证</a:t>
            </a: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强酸、强碱等腐蚀性毒物中毒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消化性溃疡、食管胃底静脉曲张、胃癌、上消化道大出血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胸主动脉瘤、重度心肺功能不全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惊厥或抽搐未控制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 type="sldNum" idx="26"/>
          </p:nvPr>
        </p:nvSpPr>
        <p:spPr>
          <a:xfrm>
            <a:off x="3429000" y="6477120"/>
            <a:ext cx="2133360" cy="307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F588CC12-14F6-4449-BBD5-180445907A1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用的中毒抢救技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424360" cy="50353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743040" indent="0">
              <a:lnSpc>
                <a:spcPct val="140000"/>
              </a:lnSpc>
              <a:spcBef>
                <a:spcPts val="439"/>
              </a:spcBef>
              <a:buNone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三）常用洗胃液</a:t>
            </a: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保护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吸附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中和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解毒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沉淀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溶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sldNum" idx="27"/>
          </p:nvPr>
        </p:nvSpPr>
        <p:spPr>
          <a:xfrm>
            <a:off x="3429000" y="6477120"/>
            <a:ext cx="2133360" cy="307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DB85C512-A23B-4293-9D93-890D3EFC7BA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线形标注 2 2"/>
          <p:cNvSpPr/>
          <p:nvPr/>
        </p:nvSpPr>
        <p:spPr>
          <a:xfrm>
            <a:off x="3692520" y="1165320"/>
            <a:ext cx="5343120" cy="756720"/>
          </a:xfrm>
          <a:prstGeom prst="borderCallout2">
            <a:avLst>
              <a:gd name="adj1" fmla="val 52809"/>
              <a:gd name="adj2" fmla="val -1313"/>
              <a:gd name="adj3" fmla="val 52810"/>
              <a:gd name="adj4" fmla="val -651"/>
              <a:gd name="adj5" fmla="val 130744"/>
              <a:gd name="adj6" fmla="val -24901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豆浆、牛奶、蛋清、米汤、植物油保护胃黏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线形标注 1 3"/>
          <p:cNvSpPr/>
          <p:nvPr/>
        </p:nvSpPr>
        <p:spPr>
          <a:xfrm>
            <a:off x="3692520" y="1995480"/>
            <a:ext cx="5343120" cy="576000"/>
          </a:xfrm>
          <a:prstGeom prst="borderCallout1">
            <a:avLst>
              <a:gd name="adj1" fmla="val 49265"/>
              <a:gd name="adj2" fmla="val 4"/>
              <a:gd name="adj3" fmla="val 124941"/>
              <a:gd name="adj4" fmla="val -24623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活性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线形标注 1 4"/>
          <p:cNvSpPr/>
          <p:nvPr/>
        </p:nvSpPr>
        <p:spPr>
          <a:xfrm>
            <a:off x="3692520" y="2690640"/>
            <a:ext cx="5343120" cy="1025280"/>
          </a:xfrm>
          <a:prstGeom prst="borderCallout1">
            <a:avLst>
              <a:gd name="adj1" fmla="val 49615"/>
              <a:gd name="adj2" fmla="val 4"/>
              <a:gd name="adj3" fmla="val 54583"/>
              <a:gd name="adj4" fmla="val -24987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吞服强碱时：选择弱酸，如</a:t>
            </a:r>
            <a:r>
              <a:rPr b="0" lang="zh-CN" sz="1800" spc="-1" strike="noStrike">
                <a:solidFill>
                  <a:srgbClr val="ff0000"/>
                </a:solidFill>
                <a:latin typeface="宋体"/>
                <a:ea typeface="宋体"/>
              </a:rPr>
              <a:t>食醋、果汁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等进行中和。吞服强酸时：选择弱碱，如</a:t>
            </a:r>
            <a:r>
              <a:rPr b="0" lang="zh-CN" sz="1800" spc="-1" strike="noStrike">
                <a:solidFill>
                  <a:srgbClr val="ff0000"/>
                </a:solidFill>
                <a:latin typeface="宋体"/>
                <a:ea typeface="宋体"/>
              </a:rPr>
              <a:t>氢氧化铝凝胶、镁乳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等进行中和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线形标注 1 5"/>
          <p:cNvSpPr/>
          <p:nvPr/>
        </p:nvSpPr>
        <p:spPr>
          <a:xfrm>
            <a:off x="3708360" y="3860640"/>
            <a:ext cx="5327280" cy="576000"/>
          </a:xfrm>
          <a:prstGeom prst="borderCallout1">
            <a:avLst>
              <a:gd name="adj1" fmla="val 53333"/>
              <a:gd name="adj2" fmla="val -191"/>
              <a:gd name="adj3" fmla="val -6051"/>
              <a:gd name="adj4" fmla="val -25071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如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∶500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高锰酸钾或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%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碳酸氢钠溶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线形标注 1 6"/>
          <p:cNvSpPr/>
          <p:nvPr/>
        </p:nvSpPr>
        <p:spPr>
          <a:xfrm>
            <a:off x="3708360" y="4653000"/>
            <a:ext cx="5327280" cy="720360"/>
          </a:xfrm>
          <a:prstGeom prst="borderCallout1">
            <a:avLst>
              <a:gd name="adj1" fmla="val 48028"/>
              <a:gd name="adj2" fmla="val -411"/>
              <a:gd name="adj3" fmla="val -44821"/>
              <a:gd name="adj4" fmla="val -25044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如硫酸钠与可溶性钡盐作用生成不溶性硫酸钡，生理盐水与硝酸盐作用生成氯化银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线形标注 1 7"/>
          <p:cNvSpPr/>
          <p:nvPr/>
        </p:nvSpPr>
        <p:spPr>
          <a:xfrm>
            <a:off x="3708360" y="5567400"/>
            <a:ext cx="5316120" cy="828360"/>
          </a:xfrm>
          <a:prstGeom prst="borderCallout1">
            <a:avLst>
              <a:gd name="adj1" fmla="val 51288"/>
              <a:gd name="adj2" fmla="val -395"/>
              <a:gd name="adj3" fmla="val -79080"/>
              <a:gd name="adj4" fmla="val -31346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饮用汽油、煤油等脂溶性毒物者，先用液体石蜡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5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00ml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" dur="50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" dur="50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" dur="500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8" dur="50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1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3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用的中毒抢救技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86480" y="1484640"/>
            <a:ext cx="896760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457200" indent="0">
              <a:lnSpc>
                <a:spcPct val="140000"/>
              </a:lnSpc>
              <a:spcBef>
                <a:spcPts val="439"/>
              </a:spcBef>
              <a:buNone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四）方法</a:t>
            </a: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marL="457200" indent="0">
              <a:lnSpc>
                <a:spcPct val="140000"/>
              </a:lnSpc>
              <a:spcBef>
                <a:spcPts val="439"/>
              </a:spcBef>
              <a:buNone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五）注意事项</a:t>
            </a: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140000"/>
              </a:lnSpc>
              <a:spcBef>
                <a:spcPts val="400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严格把握洗胃的适应证和禁忌证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00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插胃管应缓慢、轻柔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00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插入胃管后抽出的胃内容物，应留取标本及时送检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00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洗胃液每次注入量不宜过多或过少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00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洗胃液温度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457200" indent="0">
              <a:lnSpc>
                <a:spcPct val="140000"/>
              </a:lnSpc>
              <a:spcBef>
                <a:spcPts val="439"/>
              </a:spcBef>
              <a:buNone/>
              <a:tabLst>
                <a:tab algn="l" pos="0"/>
              </a:tabLst>
            </a:pP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marL="457200" indent="0">
              <a:lnSpc>
                <a:spcPct val="14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28"/>
          </p:nvPr>
        </p:nvSpPr>
        <p:spPr>
          <a:xfrm>
            <a:off x="3429000" y="6477120"/>
            <a:ext cx="2133360" cy="307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7F82DB05-C186-41F3-8DA5-AC9A061B6F0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用的中毒抢救技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23640" y="1484640"/>
            <a:ext cx="84247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457200" indent="0">
              <a:lnSpc>
                <a:spcPct val="140000"/>
              </a:lnSpc>
              <a:spcBef>
                <a:spcPts val="439"/>
              </a:spcBef>
              <a:buNone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五）注意事项</a:t>
            </a: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洗胃过程中要密切观察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00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洗胃机使用过程中的注意事项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00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洗胃应尽早尽早、彻底、反复、多次，直到洗出液澄清无味为止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00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洗胃完毕后有时需要保留胃管，以方便再次洗胃，尤其是有机磷中毒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457200" indent="0">
              <a:lnSpc>
                <a:spcPct val="140000"/>
              </a:lnSpc>
              <a:spcBef>
                <a:spcPts val="439"/>
              </a:spcBef>
              <a:buNone/>
              <a:tabLst>
                <a:tab algn="l" pos="0"/>
              </a:tabLst>
            </a:pP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marL="457200" indent="0">
              <a:lnSpc>
                <a:spcPct val="14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 type="sldNum" idx="29"/>
          </p:nvPr>
        </p:nvSpPr>
        <p:spPr>
          <a:xfrm>
            <a:off x="3429000" y="6477120"/>
            <a:ext cx="2133360" cy="307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22AF1D3E-A154-4E07-840D-3244DE1E1B1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Num" idx="30"/>
          </p:nvPr>
        </p:nvSpPr>
        <p:spPr>
          <a:xfrm>
            <a:off x="3429000" y="6477120"/>
            <a:ext cx="2133360" cy="307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EEB335E8-ED42-4243-8990-86279FE2C48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title"/>
          </p:nvPr>
        </p:nvSpPr>
        <p:spPr>
          <a:xfrm>
            <a:off x="826920" y="33336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见急性中毒患者的救护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56" name="Group 4"/>
          <p:cNvGrpSpPr/>
          <p:nvPr/>
        </p:nvGrpSpPr>
        <p:grpSpPr>
          <a:xfrm>
            <a:off x="468360" y="907920"/>
            <a:ext cx="4601520" cy="720360"/>
            <a:chOff x="468360" y="907920"/>
            <a:chExt cx="4601520" cy="720360"/>
          </a:xfrm>
        </p:grpSpPr>
        <p:grpSp>
          <p:nvGrpSpPr>
            <p:cNvPr id="257" name="Group 5"/>
            <p:cNvGrpSpPr/>
            <p:nvPr/>
          </p:nvGrpSpPr>
          <p:grpSpPr>
            <a:xfrm>
              <a:off x="468360" y="907920"/>
              <a:ext cx="761760" cy="720360"/>
              <a:chOff x="468360" y="907920"/>
              <a:chExt cx="761760" cy="720360"/>
            </a:xfrm>
          </p:grpSpPr>
          <p:sp>
            <p:nvSpPr>
              <p:cNvPr id="258" name="AutoShape 6"/>
              <p:cNvSpPr/>
              <p:nvPr/>
            </p:nvSpPr>
            <p:spPr>
              <a:xfrm>
                <a:off x="474840" y="920160"/>
                <a:ext cx="755280" cy="708120"/>
              </a:xfrm>
              <a:prstGeom prst="hexagon">
                <a:avLst>
                  <a:gd name="adj" fmla="val 2891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259" name="AutoShape 7"/>
              <p:cNvSpPr/>
              <p:nvPr/>
            </p:nvSpPr>
            <p:spPr>
              <a:xfrm>
                <a:off x="468360" y="907920"/>
                <a:ext cx="755280" cy="708120"/>
              </a:xfrm>
              <a:prstGeom prst="hexagon">
                <a:avLst>
                  <a:gd name="adj" fmla="val 28916"/>
                  <a:gd name="vf" fmla="val 115470"/>
                </a:avLst>
              </a:prstGeom>
              <a:gradFill rotWithShape="0">
                <a:gsLst>
                  <a:gs pos="0">
                    <a:srgbClr val="7d8496"/>
                  </a:gs>
                  <a:gs pos="50000">
                    <a:srgbClr val="e6e6e6"/>
                  </a:gs>
                  <a:gs pos="100000">
                    <a:srgbClr val="7d8496"/>
                  </a:gs>
                </a:gsLst>
                <a:lin ang="2700000"/>
              </a:gradFill>
              <a:ln w="9525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260" name="AutoShape 8"/>
              <p:cNvSpPr/>
              <p:nvPr/>
            </p:nvSpPr>
            <p:spPr>
              <a:xfrm>
                <a:off x="468360" y="950760"/>
                <a:ext cx="720360" cy="60624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3f5c66"/>
                  </a:gs>
                  <a:gs pos="100000">
                    <a:srgbClr val="8ac8de"/>
                  </a:gs>
                </a:gsLst>
                <a:lin ang="2700000"/>
              </a:gradFill>
              <a:ln w="9525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</p:grpSp>
        <p:sp>
          <p:nvSpPr>
            <p:cNvPr id="261" name="Line 9"/>
            <p:cNvSpPr/>
            <p:nvPr/>
          </p:nvSpPr>
          <p:spPr>
            <a:xfrm>
              <a:off x="1044360" y="1532160"/>
              <a:ext cx="3888000" cy="24120"/>
            </a:xfrm>
            <a:prstGeom prst="line">
              <a:avLst/>
            </a:prstGeom>
            <a:ln w="25400">
              <a:solidFill>
                <a:srgbClr val="969696"/>
              </a:solidFill>
              <a:prstDash val="sysDot"/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 anchorCtr="1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2" name="Text Box 10"/>
            <p:cNvSpPr/>
            <p:nvPr/>
          </p:nvSpPr>
          <p:spPr>
            <a:xfrm>
              <a:off x="1279440" y="1131840"/>
              <a:ext cx="379044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有机磷中毒患者的救护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Text Box 11"/>
            <p:cNvSpPr/>
            <p:nvPr/>
          </p:nvSpPr>
          <p:spPr>
            <a:xfrm>
              <a:off x="652320" y="963000"/>
              <a:ext cx="35028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4" name="Group 12"/>
          <p:cNvGrpSpPr/>
          <p:nvPr/>
        </p:nvGrpSpPr>
        <p:grpSpPr>
          <a:xfrm>
            <a:off x="468360" y="1700280"/>
            <a:ext cx="4462200" cy="664560"/>
            <a:chOff x="468360" y="1700280"/>
            <a:chExt cx="4462200" cy="664560"/>
          </a:xfrm>
        </p:grpSpPr>
        <p:grpSp>
          <p:nvGrpSpPr>
            <p:cNvPr id="265" name="Group 13"/>
            <p:cNvGrpSpPr/>
            <p:nvPr/>
          </p:nvGrpSpPr>
          <p:grpSpPr>
            <a:xfrm>
              <a:off x="468360" y="1700280"/>
              <a:ext cx="811440" cy="664560"/>
              <a:chOff x="468360" y="1700280"/>
              <a:chExt cx="811440" cy="664560"/>
            </a:xfrm>
          </p:grpSpPr>
          <p:sp>
            <p:nvSpPr>
              <p:cNvPr id="266" name="AutoShape 14"/>
              <p:cNvSpPr/>
              <p:nvPr/>
            </p:nvSpPr>
            <p:spPr>
              <a:xfrm>
                <a:off x="475200" y="1711440"/>
                <a:ext cx="804600" cy="653400"/>
              </a:xfrm>
              <a:prstGeom prst="hexagon">
                <a:avLst>
                  <a:gd name="adj" fmla="val 2891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267" name="AutoShape 15"/>
              <p:cNvSpPr/>
              <p:nvPr/>
            </p:nvSpPr>
            <p:spPr>
              <a:xfrm>
                <a:off x="468360" y="1700280"/>
                <a:ext cx="804600" cy="653400"/>
              </a:xfrm>
              <a:prstGeom prst="hexagon">
                <a:avLst>
                  <a:gd name="adj" fmla="val 28916"/>
                  <a:gd name="vf" fmla="val 115470"/>
                </a:avLst>
              </a:prstGeom>
              <a:gradFill rotWithShape="0">
                <a:gsLst>
                  <a:gs pos="0">
                    <a:srgbClr val="7d8496"/>
                  </a:gs>
                  <a:gs pos="50000">
                    <a:srgbClr val="e6e6e6"/>
                  </a:gs>
                  <a:gs pos="100000">
                    <a:srgbClr val="7d8496"/>
                  </a:gs>
                </a:gsLst>
                <a:lin ang="2700000"/>
              </a:gradFill>
              <a:ln w="9525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268" name="AutoShape 16"/>
              <p:cNvSpPr/>
              <p:nvPr/>
            </p:nvSpPr>
            <p:spPr>
              <a:xfrm>
                <a:off x="515880" y="1740240"/>
                <a:ext cx="705960" cy="57420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3f5c66"/>
                  </a:gs>
                  <a:gs pos="100000">
                    <a:srgbClr val="8ac8de"/>
                  </a:gs>
                </a:gsLst>
                <a:lin ang="2700000"/>
              </a:gradFill>
              <a:ln w="9525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</p:grpSp>
        <p:sp>
          <p:nvSpPr>
            <p:cNvPr id="269" name="Line 17"/>
            <p:cNvSpPr/>
            <p:nvPr/>
          </p:nvSpPr>
          <p:spPr>
            <a:xfrm>
              <a:off x="1081800" y="2276280"/>
              <a:ext cx="3848760" cy="360"/>
            </a:xfrm>
            <a:prstGeom prst="line">
              <a:avLst/>
            </a:prstGeom>
            <a:ln w="25400">
              <a:solidFill>
                <a:srgbClr val="969696"/>
              </a:solidFill>
              <a:prstDash val="sysDot"/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0" name="Text Box 18"/>
            <p:cNvSpPr/>
            <p:nvPr/>
          </p:nvSpPr>
          <p:spPr>
            <a:xfrm>
              <a:off x="1843200" y="1822320"/>
              <a:ext cx="170496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百草枯中毒患者的救护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Text Box 19"/>
            <p:cNvSpPr/>
            <p:nvPr/>
          </p:nvSpPr>
          <p:spPr>
            <a:xfrm>
              <a:off x="675720" y="1751040"/>
              <a:ext cx="35028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2" name="Group 20"/>
          <p:cNvGrpSpPr/>
          <p:nvPr/>
        </p:nvGrpSpPr>
        <p:grpSpPr>
          <a:xfrm>
            <a:off x="468360" y="2492280"/>
            <a:ext cx="4536720" cy="664920"/>
            <a:chOff x="468360" y="2492280"/>
            <a:chExt cx="4536720" cy="664920"/>
          </a:xfrm>
        </p:grpSpPr>
        <p:grpSp>
          <p:nvGrpSpPr>
            <p:cNvPr id="273" name="Group 21"/>
            <p:cNvGrpSpPr/>
            <p:nvPr/>
          </p:nvGrpSpPr>
          <p:grpSpPr>
            <a:xfrm>
              <a:off x="468360" y="2492280"/>
              <a:ext cx="761760" cy="664920"/>
              <a:chOff x="468360" y="2492280"/>
              <a:chExt cx="761760" cy="664920"/>
            </a:xfrm>
          </p:grpSpPr>
          <p:sp>
            <p:nvSpPr>
              <p:cNvPr id="274" name="AutoShape 22"/>
              <p:cNvSpPr/>
              <p:nvPr/>
            </p:nvSpPr>
            <p:spPr>
              <a:xfrm>
                <a:off x="474840" y="2503800"/>
                <a:ext cx="755280" cy="653400"/>
              </a:xfrm>
              <a:prstGeom prst="hexagon">
                <a:avLst>
                  <a:gd name="adj" fmla="val 2891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275" name="AutoShape 23"/>
              <p:cNvSpPr/>
              <p:nvPr/>
            </p:nvSpPr>
            <p:spPr>
              <a:xfrm>
                <a:off x="468360" y="2492280"/>
                <a:ext cx="755280" cy="653400"/>
              </a:xfrm>
              <a:prstGeom prst="hexagon">
                <a:avLst>
                  <a:gd name="adj" fmla="val 28916"/>
                  <a:gd name="vf" fmla="val 115470"/>
                </a:avLst>
              </a:prstGeom>
              <a:gradFill rotWithShape="0">
                <a:gsLst>
                  <a:gs pos="0">
                    <a:srgbClr val="7d8496"/>
                  </a:gs>
                  <a:gs pos="50000">
                    <a:srgbClr val="e6e6e6"/>
                  </a:gs>
                  <a:gs pos="100000">
                    <a:srgbClr val="7d8496"/>
                  </a:gs>
                </a:gsLst>
                <a:lin ang="2700000"/>
              </a:gradFill>
              <a:ln w="9525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276" name="AutoShape 24"/>
              <p:cNvSpPr/>
              <p:nvPr/>
            </p:nvSpPr>
            <p:spPr>
              <a:xfrm>
                <a:off x="512640" y="2532240"/>
                <a:ext cx="663120" cy="57420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3f5c66"/>
                  </a:gs>
                  <a:gs pos="100000">
                    <a:srgbClr val="8ac8de"/>
                  </a:gs>
                </a:gsLst>
                <a:lin ang="2700000"/>
              </a:gradFill>
              <a:ln w="9525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</p:grpSp>
        <p:sp>
          <p:nvSpPr>
            <p:cNvPr id="277" name="Line 25"/>
            <p:cNvSpPr/>
            <p:nvPr/>
          </p:nvSpPr>
          <p:spPr>
            <a:xfrm>
              <a:off x="1044360" y="3068280"/>
              <a:ext cx="3960720" cy="360"/>
            </a:xfrm>
            <a:prstGeom prst="line">
              <a:avLst/>
            </a:prstGeom>
            <a:ln w="25400">
              <a:solidFill>
                <a:srgbClr val="969696"/>
              </a:solidFill>
              <a:prstDash val="sysDot"/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8" name="Text Box 26"/>
            <p:cNvSpPr/>
            <p:nvPr/>
          </p:nvSpPr>
          <p:spPr>
            <a:xfrm>
              <a:off x="2000520" y="2619360"/>
              <a:ext cx="200988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急性灭鼠剂中毒患者的救护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Text Box 27"/>
            <p:cNvSpPr/>
            <p:nvPr/>
          </p:nvSpPr>
          <p:spPr>
            <a:xfrm>
              <a:off x="652320" y="2543040"/>
              <a:ext cx="35028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0" name="Group 28"/>
          <p:cNvGrpSpPr/>
          <p:nvPr/>
        </p:nvGrpSpPr>
        <p:grpSpPr>
          <a:xfrm>
            <a:off x="468360" y="3284640"/>
            <a:ext cx="4535280" cy="664560"/>
            <a:chOff x="468360" y="3284640"/>
            <a:chExt cx="4535280" cy="664560"/>
          </a:xfrm>
        </p:grpSpPr>
        <p:grpSp>
          <p:nvGrpSpPr>
            <p:cNvPr id="281" name="Group 29"/>
            <p:cNvGrpSpPr/>
            <p:nvPr/>
          </p:nvGrpSpPr>
          <p:grpSpPr>
            <a:xfrm>
              <a:off x="468360" y="3284640"/>
              <a:ext cx="810720" cy="664560"/>
              <a:chOff x="468360" y="3284640"/>
              <a:chExt cx="810720" cy="664560"/>
            </a:xfrm>
          </p:grpSpPr>
          <p:sp>
            <p:nvSpPr>
              <p:cNvPr id="282" name="AutoShape 30"/>
              <p:cNvSpPr/>
              <p:nvPr/>
            </p:nvSpPr>
            <p:spPr>
              <a:xfrm>
                <a:off x="475200" y="3295800"/>
                <a:ext cx="803880" cy="653400"/>
              </a:xfrm>
              <a:prstGeom prst="hexagon">
                <a:avLst>
                  <a:gd name="adj" fmla="val 2891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283" name="AutoShape 31"/>
              <p:cNvSpPr/>
              <p:nvPr/>
            </p:nvSpPr>
            <p:spPr>
              <a:xfrm>
                <a:off x="468360" y="3284640"/>
                <a:ext cx="803880" cy="653400"/>
              </a:xfrm>
              <a:prstGeom prst="hexagon">
                <a:avLst>
                  <a:gd name="adj" fmla="val 28916"/>
                  <a:gd name="vf" fmla="val 115470"/>
                </a:avLst>
              </a:prstGeom>
              <a:gradFill rotWithShape="0">
                <a:gsLst>
                  <a:gs pos="0">
                    <a:srgbClr val="7d8496"/>
                  </a:gs>
                  <a:gs pos="50000">
                    <a:srgbClr val="e6e6e6"/>
                  </a:gs>
                  <a:gs pos="100000">
                    <a:srgbClr val="7d8496"/>
                  </a:gs>
                </a:gsLst>
                <a:lin ang="2700000"/>
              </a:gradFill>
              <a:ln w="9525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284" name="AutoShape 32"/>
              <p:cNvSpPr/>
              <p:nvPr/>
            </p:nvSpPr>
            <p:spPr>
              <a:xfrm>
                <a:off x="515880" y="3324240"/>
                <a:ext cx="672480" cy="57420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3f5c66"/>
                  </a:gs>
                  <a:gs pos="100000">
                    <a:srgbClr val="8ac8de"/>
                  </a:gs>
                </a:gsLst>
                <a:lin ang="2700000"/>
              </a:gradFill>
              <a:ln w="9525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</p:grpSp>
        <p:sp>
          <p:nvSpPr>
            <p:cNvPr id="285" name="Line 33"/>
            <p:cNvSpPr/>
            <p:nvPr/>
          </p:nvSpPr>
          <p:spPr>
            <a:xfrm>
              <a:off x="1081440" y="3860640"/>
              <a:ext cx="3922200" cy="360"/>
            </a:xfrm>
            <a:prstGeom prst="line">
              <a:avLst/>
            </a:prstGeom>
            <a:ln w="25400">
              <a:solidFill>
                <a:srgbClr val="969696"/>
              </a:solidFill>
              <a:prstDash val="sysDot"/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6" name="Text Box 34"/>
            <p:cNvSpPr/>
            <p:nvPr/>
          </p:nvSpPr>
          <p:spPr>
            <a:xfrm>
              <a:off x="1581840" y="3335400"/>
              <a:ext cx="19548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46ca6"/>
                </a:solidFill>
                <a:latin typeface="Arial"/>
                <a:ea typeface="宋体"/>
              </a:endParaRPr>
            </a:p>
          </p:txBody>
        </p:sp>
        <p:sp>
          <p:nvSpPr>
            <p:cNvPr id="287" name="Text Box 35"/>
            <p:cNvSpPr/>
            <p:nvPr/>
          </p:nvSpPr>
          <p:spPr>
            <a:xfrm>
              <a:off x="675720" y="3335400"/>
              <a:ext cx="35028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8" name="Group 36"/>
          <p:cNvGrpSpPr/>
          <p:nvPr/>
        </p:nvGrpSpPr>
        <p:grpSpPr>
          <a:xfrm>
            <a:off x="468360" y="4076640"/>
            <a:ext cx="4535280" cy="664920"/>
            <a:chOff x="468360" y="4076640"/>
            <a:chExt cx="4535280" cy="664920"/>
          </a:xfrm>
        </p:grpSpPr>
        <p:grpSp>
          <p:nvGrpSpPr>
            <p:cNvPr id="289" name="Group 37"/>
            <p:cNvGrpSpPr/>
            <p:nvPr/>
          </p:nvGrpSpPr>
          <p:grpSpPr>
            <a:xfrm>
              <a:off x="468360" y="4076640"/>
              <a:ext cx="798480" cy="664920"/>
              <a:chOff x="468360" y="4076640"/>
              <a:chExt cx="798480" cy="664920"/>
            </a:xfrm>
          </p:grpSpPr>
          <p:sp>
            <p:nvSpPr>
              <p:cNvPr id="290" name="AutoShape 38"/>
              <p:cNvSpPr/>
              <p:nvPr/>
            </p:nvSpPr>
            <p:spPr>
              <a:xfrm>
                <a:off x="474840" y="4088160"/>
                <a:ext cx="792000" cy="653400"/>
              </a:xfrm>
              <a:prstGeom prst="hexagon">
                <a:avLst>
                  <a:gd name="adj" fmla="val 2891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291" name="AutoShape 39"/>
              <p:cNvSpPr/>
              <p:nvPr/>
            </p:nvSpPr>
            <p:spPr>
              <a:xfrm>
                <a:off x="468360" y="4076640"/>
                <a:ext cx="792000" cy="653400"/>
              </a:xfrm>
              <a:prstGeom prst="hexagon">
                <a:avLst>
                  <a:gd name="adj" fmla="val 28916"/>
                  <a:gd name="vf" fmla="val 115470"/>
                </a:avLst>
              </a:prstGeom>
              <a:gradFill rotWithShape="0">
                <a:gsLst>
                  <a:gs pos="0">
                    <a:srgbClr val="7d8496"/>
                  </a:gs>
                  <a:gs pos="50000">
                    <a:srgbClr val="e6e6e6"/>
                  </a:gs>
                  <a:gs pos="100000">
                    <a:srgbClr val="7d8496"/>
                  </a:gs>
                </a:gsLst>
                <a:lin ang="2700000"/>
              </a:gradFill>
              <a:ln w="9525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292" name="AutoShape 40"/>
              <p:cNvSpPr/>
              <p:nvPr/>
            </p:nvSpPr>
            <p:spPr>
              <a:xfrm>
                <a:off x="514080" y="4155840"/>
                <a:ext cx="694800" cy="57420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3f5c66"/>
                  </a:gs>
                  <a:gs pos="100000">
                    <a:srgbClr val="8ac8de"/>
                  </a:gs>
                </a:gsLst>
                <a:lin ang="2700000"/>
              </a:gradFill>
              <a:ln w="9525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</p:grpSp>
        <p:sp>
          <p:nvSpPr>
            <p:cNvPr id="293" name="Line 41"/>
            <p:cNvSpPr/>
            <p:nvPr/>
          </p:nvSpPr>
          <p:spPr>
            <a:xfrm>
              <a:off x="1072440" y="4652640"/>
              <a:ext cx="3931200" cy="360"/>
            </a:xfrm>
            <a:prstGeom prst="line">
              <a:avLst/>
            </a:prstGeom>
            <a:ln w="25400">
              <a:solidFill>
                <a:srgbClr val="969696"/>
              </a:solidFill>
              <a:prstDash val="sysDot"/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4" name="Text Box 42"/>
            <p:cNvSpPr/>
            <p:nvPr/>
          </p:nvSpPr>
          <p:spPr>
            <a:xfrm>
              <a:off x="1565280" y="4148280"/>
              <a:ext cx="192600" cy="52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endParaRPr b="1" lang="en-US" sz="2800" spc="-1" strike="noStrike">
                <a:solidFill>
                  <a:srgbClr val="046ca6"/>
                </a:solidFill>
                <a:latin typeface="Arial"/>
                <a:ea typeface="宋体"/>
              </a:endParaRPr>
            </a:p>
          </p:txBody>
        </p:sp>
        <p:sp>
          <p:nvSpPr>
            <p:cNvPr id="295" name="Text Box 43"/>
            <p:cNvSpPr/>
            <p:nvPr/>
          </p:nvSpPr>
          <p:spPr>
            <a:xfrm>
              <a:off x="669960" y="4156200"/>
              <a:ext cx="35028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" name="Group 44"/>
          <p:cNvGrpSpPr/>
          <p:nvPr/>
        </p:nvGrpSpPr>
        <p:grpSpPr>
          <a:xfrm>
            <a:off x="468360" y="4869000"/>
            <a:ext cx="4608360" cy="664560"/>
            <a:chOff x="468360" y="4869000"/>
            <a:chExt cx="4608360" cy="664560"/>
          </a:xfrm>
        </p:grpSpPr>
        <p:grpSp>
          <p:nvGrpSpPr>
            <p:cNvPr id="297" name="Group 45"/>
            <p:cNvGrpSpPr/>
            <p:nvPr/>
          </p:nvGrpSpPr>
          <p:grpSpPr>
            <a:xfrm>
              <a:off x="468360" y="4869000"/>
              <a:ext cx="761760" cy="664560"/>
              <a:chOff x="468360" y="4869000"/>
              <a:chExt cx="761760" cy="664560"/>
            </a:xfrm>
          </p:grpSpPr>
          <p:sp>
            <p:nvSpPr>
              <p:cNvPr id="298" name="AutoShape 46"/>
              <p:cNvSpPr/>
              <p:nvPr/>
            </p:nvSpPr>
            <p:spPr>
              <a:xfrm>
                <a:off x="474840" y="4880160"/>
                <a:ext cx="755280" cy="653400"/>
              </a:xfrm>
              <a:prstGeom prst="hexagon">
                <a:avLst>
                  <a:gd name="adj" fmla="val 2891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299" name="AutoShape 47"/>
              <p:cNvSpPr/>
              <p:nvPr/>
            </p:nvSpPr>
            <p:spPr>
              <a:xfrm>
                <a:off x="468360" y="4869000"/>
                <a:ext cx="755280" cy="653400"/>
              </a:xfrm>
              <a:prstGeom prst="hexagon">
                <a:avLst>
                  <a:gd name="adj" fmla="val 28916"/>
                  <a:gd name="vf" fmla="val 115470"/>
                </a:avLst>
              </a:prstGeom>
              <a:gradFill rotWithShape="0">
                <a:gsLst>
                  <a:gs pos="0">
                    <a:srgbClr val="7d8496"/>
                  </a:gs>
                  <a:gs pos="50000">
                    <a:srgbClr val="e6e6e6"/>
                  </a:gs>
                  <a:gs pos="100000">
                    <a:srgbClr val="7d8496"/>
                  </a:gs>
                </a:gsLst>
                <a:lin ang="2700000"/>
              </a:gradFill>
              <a:ln w="9525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300" name="AutoShape 48"/>
              <p:cNvSpPr/>
              <p:nvPr/>
            </p:nvSpPr>
            <p:spPr>
              <a:xfrm>
                <a:off x="512640" y="4908600"/>
                <a:ext cx="663120" cy="57420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3f5c66"/>
                  </a:gs>
                  <a:gs pos="100000">
                    <a:srgbClr val="8ac8de"/>
                  </a:gs>
                </a:gsLst>
                <a:lin ang="2700000"/>
              </a:gradFill>
              <a:ln w="9525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</p:grpSp>
        <p:sp>
          <p:nvSpPr>
            <p:cNvPr id="301" name="Line 49"/>
            <p:cNvSpPr/>
            <p:nvPr/>
          </p:nvSpPr>
          <p:spPr>
            <a:xfrm>
              <a:off x="1044360" y="5445000"/>
              <a:ext cx="4032360" cy="360"/>
            </a:xfrm>
            <a:prstGeom prst="line">
              <a:avLst/>
            </a:prstGeom>
            <a:ln w="25400">
              <a:solidFill>
                <a:srgbClr val="969696"/>
              </a:solidFill>
              <a:prstDash val="sysDot"/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2" name="Text Box 50"/>
            <p:cNvSpPr/>
            <p:nvPr/>
          </p:nvSpPr>
          <p:spPr>
            <a:xfrm>
              <a:off x="2007720" y="5006880"/>
              <a:ext cx="231480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急性镇静催眠药中毒患者的救护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Text Box 51"/>
            <p:cNvSpPr/>
            <p:nvPr/>
          </p:nvSpPr>
          <p:spPr>
            <a:xfrm>
              <a:off x="641160" y="5002200"/>
              <a:ext cx="35028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4" name="矩形 55"/>
          <p:cNvSpPr/>
          <p:nvPr/>
        </p:nvSpPr>
        <p:spPr>
          <a:xfrm>
            <a:off x="1260360" y="3318480"/>
            <a:ext cx="42224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一氧化碳中毒患者的救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矩形 56"/>
          <p:cNvSpPr/>
          <p:nvPr/>
        </p:nvSpPr>
        <p:spPr>
          <a:xfrm>
            <a:off x="1272600" y="4184640"/>
            <a:ext cx="415080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急性酒精中毒患者的救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6" name="Group 44"/>
          <p:cNvGrpSpPr/>
          <p:nvPr/>
        </p:nvGrpSpPr>
        <p:grpSpPr>
          <a:xfrm>
            <a:off x="468360" y="5732640"/>
            <a:ext cx="4608360" cy="666360"/>
            <a:chOff x="468360" y="5732640"/>
            <a:chExt cx="4608360" cy="666360"/>
          </a:xfrm>
        </p:grpSpPr>
        <p:grpSp>
          <p:nvGrpSpPr>
            <p:cNvPr id="307" name="Group 45"/>
            <p:cNvGrpSpPr/>
            <p:nvPr/>
          </p:nvGrpSpPr>
          <p:grpSpPr>
            <a:xfrm>
              <a:off x="468360" y="5732640"/>
              <a:ext cx="761760" cy="666360"/>
              <a:chOff x="468360" y="5732640"/>
              <a:chExt cx="761760" cy="666360"/>
            </a:xfrm>
          </p:grpSpPr>
          <p:sp>
            <p:nvSpPr>
              <p:cNvPr id="308" name="AutoShape 46"/>
              <p:cNvSpPr/>
              <p:nvPr/>
            </p:nvSpPr>
            <p:spPr>
              <a:xfrm>
                <a:off x="474840" y="5743800"/>
                <a:ext cx="755280" cy="655200"/>
              </a:xfrm>
              <a:prstGeom prst="hexagon">
                <a:avLst>
                  <a:gd name="adj" fmla="val 2891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309" name="AutoShape 47"/>
              <p:cNvSpPr/>
              <p:nvPr/>
            </p:nvSpPr>
            <p:spPr>
              <a:xfrm>
                <a:off x="468360" y="5732640"/>
                <a:ext cx="755280" cy="655200"/>
              </a:xfrm>
              <a:prstGeom prst="hexagon">
                <a:avLst>
                  <a:gd name="adj" fmla="val 28916"/>
                  <a:gd name="vf" fmla="val 115470"/>
                </a:avLst>
              </a:prstGeom>
              <a:gradFill rotWithShape="0">
                <a:gsLst>
                  <a:gs pos="0">
                    <a:srgbClr val="7d8496"/>
                  </a:gs>
                  <a:gs pos="50000">
                    <a:srgbClr val="e6e6e6"/>
                  </a:gs>
                  <a:gs pos="100000">
                    <a:srgbClr val="7d8496"/>
                  </a:gs>
                </a:gsLst>
                <a:lin ang="2700000"/>
              </a:gradFill>
              <a:ln w="9525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310" name="AutoShape 48"/>
              <p:cNvSpPr/>
              <p:nvPr/>
            </p:nvSpPr>
            <p:spPr>
              <a:xfrm>
                <a:off x="512640" y="5771880"/>
                <a:ext cx="663120" cy="57600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3f5c66"/>
                  </a:gs>
                  <a:gs pos="100000">
                    <a:srgbClr val="8ac8de"/>
                  </a:gs>
                </a:gsLst>
                <a:lin ang="2700000"/>
              </a:gradFill>
              <a:ln w="9525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</p:grpSp>
        <p:sp>
          <p:nvSpPr>
            <p:cNvPr id="311" name="Line 49"/>
            <p:cNvSpPr/>
            <p:nvPr/>
          </p:nvSpPr>
          <p:spPr>
            <a:xfrm>
              <a:off x="1044360" y="6310080"/>
              <a:ext cx="4032360" cy="360"/>
            </a:xfrm>
            <a:prstGeom prst="line">
              <a:avLst/>
            </a:prstGeom>
            <a:ln w="25400">
              <a:solidFill>
                <a:srgbClr val="969696"/>
              </a:solidFill>
              <a:prstDash val="sysDot"/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2" name="Text Box 50"/>
            <p:cNvSpPr/>
            <p:nvPr/>
          </p:nvSpPr>
          <p:spPr>
            <a:xfrm>
              <a:off x="1910520" y="5845320"/>
              <a:ext cx="185760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强酸强碱中毒患者的救护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Text Box 51"/>
            <p:cNvSpPr/>
            <p:nvPr/>
          </p:nvSpPr>
          <p:spPr>
            <a:xfrm>
              <a:off x="667800" y="5874120"/>
              <a:ext cx="35028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有机磷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357120" y="150012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、有机磷中毒患者的救护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sldNum" idx="31"/>
          </p:nvPr>
        </p:nvSpPr>
        <p:spPr>
          <a:xfrm>
            <a:off x="3429000" y="6477120"/>
            <a:ext cx="2133360" cy="307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8A0811C5-34BA-4BC7-9B41-FDBB6A90D6C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圆角矩形 4"/>
          <p:cNvSpPr/>
          <p:nvPr/>
        </p:nvSpPr>
        <p:spPr>
          <a:xfrm>
            <a:off x="357120" y="2286000"/>
            <a:ext cx="8496000" cy="35269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40000"/>
              </a:lnSpc>
              <a:tabLst>
                <a:tab algn="l" pos="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患者，男性，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52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岁。因突然昏迷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1h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急诊入院。入院查体：体温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36.2℃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，脉搏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110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分，呼吸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23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分，血压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95/60mmHg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，处于浅昏迷状态，面色苍白，口唇发绀，口吐白沫，皮肤湿冷，呼吸困难，双侧瞳孔缩小如针尖，呼吸有大蒜样臭味，听诊肺部湿啰音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Verdana"/>
                <a:ea typeface="宋体"/>
              </a:rPr>
              <a:t>问题：该患者最可能发生什么状况？为进一步明确诊断，需要做哪些检查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有机磷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中毒机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抑制胆碱酯酶的活性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，导致胆碱能神经递质大量积聚，作用于胆碱受体，引起胆碱能神经先兴奋后抑制的一系列毒蕈碱样、烟碱样及中枢神经系统中毒的症状和体征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200000"/>
              </a:lnSpc>
              <a:spcBef>
                <a:spcPts val="561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有机磷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8610120" cy="49795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4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护理评估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毒物接触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毒蕈碱样症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烟碱样症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中枢神经系统症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辅助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全血胆碱酯酶活性测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有机磷杀虫药代谢产物测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其他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 type="dt" idx="32"/>
          </p:nvPr>
        </p:nvSpPr>
        <p:spPr>
          <a:xfrm>
            <a:off x="6248520" y="0"/>
            <a:ext cx="2666520" cy="228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buNone/>
            </a:pPr>
            <a:endParaRPr b="0" lang="en-US" sz="10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85840" y="1125360"/>
            <a:ext cx="8572320" cy="5122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识记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914400" indent="-4572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Verdana"/>
              <a:buAutoNum type="arabicPeriod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描述急性中毒的基本救治措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Verdana"/>
              <a:buAutoNum type="arabicPeriod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描述洗胃的适应证、禁忌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Verdana"/>
              <a:buAutoNum type="arabicPeriod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描述常见毒物中毒的临床表现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561"/>
              </a:spcBef>
              <a:buClr>
                <a:srgbClr val="ffc000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理解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914400" indent="-4572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Verdana"/>
              <a:buAutoNum type="arabicPeriod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比较催吐和洗胃两种中毒抢救技术的异同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Verdana"/>
              <a:buAutoNum type="arabicPeriod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解释常见毒物中毒的中毒机制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Verdana"/>
              <a:buAutoNum type="arabicPeriod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比较强酸中毒与强碱中毒在临床表现及救护措施上的区别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561"/>
              </a:spcBef>
              <a:buClr>
                <a:srgbClr val="ffc000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运用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914400" indent="-4572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Verdana"/>
              <a:buAutoNum type="arabicPeriod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评估各种常见急性中毒患者的健康状况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Verdana"/>
              <a:buAutoNum type="arabicPeriod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实施各种常见急性中毒患者的救护措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sldNum" idx="8"/>
          </p:nvPr>
        </p:nvSpPr>
        <p:spPr>
          <a:xfrm>
            <a:off x="3429000" y="6477120"/>
            <a:ext cx="2133360" cy="307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D31D7EC1-8BDD-4CD0-A0F2-86857A158D1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有机磷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4920" y="1268280"/>
            <a:ext cx="8610120" cy="49795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4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救护措施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急救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85716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迅速清除毒物：立即脱离中毒现场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85716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特效解毒药：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抗胆碱药和胆碱酯酶复能剂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85716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对症处理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 type="dt" idx="33"/>
          </p:nvPr>
        </p:nvSpPr>
        <p:spPr>
          <a:xfrm>
            <a:off x="6248520" y="0"/>
            <a:ext cx="2666520" cy="228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buNone/>
            </a:pPr>
            <a:endParaRPr b="0" lang="en-US" sz="10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有机磷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457200" indent="0">
              <a:lnSpc>
                <a:spcPct val="14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护理措施</a:t>
            </a:r>
            <a:endParaRPr b="1" lang="en-US" sz="3200" spc="-1" strike="noStrike">
              <a:solidFill>
                <a:schemeClr val="accent1"/>
              </a:solidFill>
              <a:latin typeface="Verdana"/>
            </a:endParaRPr>
          </a:p>
          <a:p>
            <a:pPr marL="85716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病情观察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85716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用药护理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85716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一般护理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85716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心理护理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 type="dt" idx="34"/>
          </p:nvPr>
        </p:nvSpPr>
        <p:spPr>
          <a:xfrm>
            <a:off x="6248520" y="0"/>
            <a:ext cx="2666520" cy="228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buNone/>
            </a:pPr>
            <a:endParaRPr b="0" lang="en-US" sz="10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百草枯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二、百草枯中毒患者的救护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35"/>
          </p:nvPr>
        </p:nvSpPr>
        <p:spPr>
          <a:xfrm>
            <a:off x="6248520" y="0"/>
            <a:ext cx="2666520" cy="228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buNone/>
            </a:pPr>
            <a:endParaRPr b="0" lang="en-US" sz="10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332" name="圆角矩形 4"/>
          <p:cNvSpPr/>
          <p:nvPr/>
        </p:nvSpPr>
        <p:spPr>
          <a:xfrm>
            <a:off x="324000" y="2276640"/>
            <a:ext cx="8496000" cy="316836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4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患者，女性，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25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岁。因家庭矛盾将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20%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百草枯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50ml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兑水后吞服，出现恶心、呕吐，呕吐物为草绿色胃内容物，平车入院。入院查体：体温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36.5℃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，脉搏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78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分，呼吸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20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分，血压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98/62mmHg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。患者意识清楚，咽部充血，口腔黏膜损伤。胸部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X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线示：双肺纹理增强。诊断为百草枯中毒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000" spc="-1" strike="noStrike">
                <a:solidFill>
                  <a:srgbClr val="ff0000"/>
                </a:solidFill>
                <a:latin typeface="Verdana"/>
                <a:ea typeface="宋体"/>
              </a:rPr>
              <a:t>问题：如何对该患者进行急救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百草枯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lvl="1" marL="743040" indent="-285840">
              <a:lnSpc>
                <a:spcPct val="20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百草枯是一种被广泛应用于园艺和农业生产中的除草剂，对人、畜具有很强毒性，且无特效解毒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20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中毒机制：百草枯作用于细胞的氧化还原反应，在细胞内活化氧自由基是中毒作用的基础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百草枯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24000" y="981000"/>
            <a:ext cx="8610120" cy="5122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4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护理评估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毒物接触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局部刺激症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呼吸系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消化系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泌尿系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循环系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中枢神经系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血液系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百草枯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304920" y="1125360"/>
            <a:ext cx="8610120" cy="5122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spcBef>
                <a:spcPts val="1417"/>
              </a:spcBef>
              <a:buNone/>
            </a:pP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lvl="1" marL="743040" indent="-285840">
              <a:lnSpc>
                <a:spcPct val="20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辅助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毒物鉴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胸部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X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线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动脉血气分析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百草枯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4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救护措施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急救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85716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立即脱离中毒现场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85716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迅速清除毒物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85716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促进已吸收毒物的排出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85716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对症治疗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百草枯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护理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85716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病情观察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85716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一般护理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85716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心理护理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灭鼠剂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三、急性灭鼠剂中毒患者的救护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345" name="圆角矩形 3"/>
          <p:cNvSpPr/>
          <p:nvPr/>
        </p:nvSpPr>
        <p:spPr>
          <a:xfrm>
            <a:off x="179280" y="2276640"/>
            <a:ext cx="8784720" cy="30967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40000"/>
              </a:lnSpc>
              <a:tabLst>
                <a:tab algn="l" pos="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患者，男性，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17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岁，因误服含毒鼠强成分的饼干后出现头晕、心悸，后神志不清，二便失禁，平车入院。入院查体：体温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39.2℃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，脉搏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168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分，呼吸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32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分，血压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131/77mmHg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，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SP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100%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。患者面色青灰，口唇、指端重度发绀，反复强直抽搐，双肺布满湿啰音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Verdana"/>
                <a:ea typeface="宋体"/>
              </a:rPr>
              <a:t>问题：如何对该患者进行急救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灭鼠剂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4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护理评估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毒物接触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毒鼠强中毒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氟乙酸钠中毒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磷化锌中毒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辅助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Num" idx="9"/>
          </p:nvPr>
        </p:nvSpPr>
        <p:spPr>
          <a:xfrm>
            <a:off x="4067280" y="6524640"/>
            <a:ext cx="1131480" cy="333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FE98D004-4E22-465E-AAF9-88FA6C64BA6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5800" cy="8568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39640" y="1785960"/>
            <a:ext cx="8299080" cy="44305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4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定义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黑体"/>
              </a:rPr>
              <a:t>: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743040" indent="-285840">
              <a:lnSpc>
                <a:spcPct val="20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急性中毒是指大量毒物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短时间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内进入人体或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毒性剧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的毒物突然进入人体，导致机体受损并发生功能障碍，甚至危及生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灭鼠剂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4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救护措施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急救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0">
              <a:lnSpc>
                <a:spcPct val="14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溴鼠隆中毒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457200" indent="0">
              <a:lnSpc>
                <a:spcPct val="14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毒鼠强中毒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457200" indent="0">
              <a:lnSpc>
                <a:spcPct val="14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氟乙酸钠中毒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457200" indent="0">
              <a:lnSpc>
                <a:spcPct val="14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磷化锌中毒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350" name="线形标注 2 1"/>
          <p:cNvSpPr/>
          <p:nvPr/>
        </p:nvSpPr>
        <p:spPr>
          <a:xfrm>
            <a:off x="4245120" y="1197000"/>
            <a:ext cx="4647960" cy="1152000"/>
          </a:xfrm>
          <a:prstGeom prst="borderCallout2">
            <a:avLst>
              <a:gd name="adj1" fmla="val 53334"/>
              <a:gd name="adj2" fmla="val -515"/>
              <a:gd name="adj3" fmla="val 52316"/>
              <a:gd name="adj4" fmla="val -274"/>
              <a:gd name="adj5" fmla="val 152763"/>
              <a:gd name="adj6" fmla="val -22286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4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迅速清除毒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特效解毒剂：维生素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K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对症治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线形标注 2 4"/>
          <p:cNvSpPr/>
          <p:nvPr/>
        </p:nvSpPr>
        <p:spPr>
          <a:xfrm>
            <a:off x="4290840" y="2637000"/>
            <a:ext cx="4647960" cy="1079280"/>
          </a:xfrm>
          <a:prstGeom prst="borderCallout2">
            <a:avLst>
              <a:gd name="adj1" fmla="val 50243"/>
              <a:gd name="adj2" fmla="val -262"/>
              <a:gd name="adj3" fmla="val 48071"/>
              <a:gd name="adj4" fmla="val -526"/>
              <a:gd name="adj5" fmla="val 85019"/>
              <a:gd name="adj6" fmla="val -23058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4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迅速清除毒物 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控制抽搐 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解毒剂：二巯基丙磺酸钠、维生素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B6 4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对症治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线形标注 2 5"/>
          <p:cNvSpPr/>
          <p:nvPr/>
        </p:nvSpPr>
        <p:spPr>
          <a:xfrm>
            <a:off x="4290840" y="3933000"/>
            <a:ext cx="4647960" cy="1150560"/>
          </a:xfrm>
          <a:prstGeom prst="borderCallout2">
            <a:avLst>
              <a:gd name="adj1" fmla="val 49307"/>
              <a:gd name="adj2" fmla="val -515"/>
              <a:gd name="adj3" fmla="val 18750"/>
              <a:gd name="adj4" fmla="val -16667"/>
              <a:gd name="adj5" fmla="val 18246"/>
              <a:gd name="adj6" fmla="val -16549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4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迅速清除毒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特效解毒剂：乙酰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对症治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线形标注 2 6"/>
          <p:cNvSpPr/>
          <p:nvPr/>
        </p:nvSpPr>
        <p:spPr>
          <a:xfrm>
            <a:off x="4290840" y="5300640"/>
            <a:ext cx="4647960" cy="1007640"/>
          </a:xfrm>
          <a:prstGeom prst="borderCallout2">
            <a:avLst>
              <a:gd name="adj1" fmla="val 52475"/>
              <a:gd name="adj2" fmla="val -262"/>
              <a:gd name="adj3" fmla="val 54801"/>
              <a:gd name="adj4" fmla="val -526"/>
              <a:gd name="adj5" fmla="val -51036"/>
              <a:gd name="adj6" fmla="val -22909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4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迅速清除毒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对症治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7" dur="500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9" dur="500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1" dur="500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3" dur="500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灭鼠剂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护理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病情观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一般护理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心理护理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氧化碳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四、一氧化碳中毒患者的救护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358" name="圆角矩形 3"/>
          <p:cNvSpPr/>
          <p:nvPr/>
        </p:nvSpPr>
        <p:spPr>
          <a:xfrm>
            <a:off x="179280" y="2276640"/>
            <a:ext cx="8784720" cy="381600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40000"/>
              </a:lnSpc>
              <a:tabLst>
                <a:tab algn="l" pos="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患儿，男性，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岁。因误吸入煤气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0h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余，昏睡约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0h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，平车入院。入院查体：体温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38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℃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，脉搏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40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分，呼吸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24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分，血压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87/57mmHg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，患儿呈昏迷状，面色苍白，口唇发绀，对外界刺激无反应，双侧瞳孔等大等圆，直径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3mm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，对光反射存在，压眶反射存在，四肢肌力、肌张力减弱，颈软，巴宾斯基征阳性，腱反射减弱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问题：患者出现上述症状，最可能的原因是什么？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如何对该患者进行急救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氧化碳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42920" y="1371600"/>
            <a:ext cx="83437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lvl="1" marL="743040" indent="-285840">
              <a:lnSpc>
                <a:spcPct val="20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中毒机制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人体吸入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CO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后，通过肺泡进入血液循环，与血液中红细胞的血红蛋白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(Hb)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结合，形成稳定的碳氧血红蛋白（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COHb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）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COHb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不能携带氧，且不易解离，使血红蛋白氧解离曲线左移，血液的携氧能力降低，从而导致组织缺氧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氧化碳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24000" y="9810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4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护理评估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毒物接触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轻度中毒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中度中毒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重度中度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中毒后迟发性脑病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辅助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血液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  <a:ea typeface="宋体"/>
              </a:rPr>
              <a:t>COHb</a:t>
            </a:r>
            <a:r>
              <a:rPr b="1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测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其他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氧化碳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4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救护措施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急救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85716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迅速撤离现场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85716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氧疗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85716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预防中毒后迟发性脑病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氧化碳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护理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病情观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氧疗的护理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一般护理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心理护理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酒精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五、急性酒精中毒患者的救护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369" name="圆角矩形 4"/>
          <p:cNvSpPr/>
          <p:nvPr/>
        </p:nvSpPr>
        <p:spPr>
          <a:xfrm>
            <a:off x="324000" y="2349360"/>
            <a:ext cx="8496000" cy="259200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just">
              <a:lnSpc>
                <a:spcPct val="140000"/>
              </a:lnSpc>
              <a:tabLst>
                <a:tab algn="l" pos="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男性，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46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岁。因同事生日聚会饮用高度白酒至少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500ml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，意识不清，呕吐物有酒精气味，平车入院。入院查体：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T 36.5℃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，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P 120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分，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R 28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分，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BP 90/60mmHg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。诊断为急性酒精中毒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0000"/>
              </a:lnSpc>
              <a:tabLst>
                <a:tab algn="l" pos="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Verdana"/>
                <a:ea typeface="宋体"/>
              </a:rPr>
              <a:t>请问：如何对该患者进行急救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酒精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68360" y="1371600"/>
            <a:ext cx="844668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20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酒精，学名乙醇，是日常生活中各类酒饮料的主要成分，也可用作医用消毒剂、工业原料等。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中毒机制：中枢神经系统损害、代谢异常、心脏损害。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酒精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4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护理评估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毒物接触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兴奋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共济失调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昏迷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Num" idx="10"/>
          </p:nvPr>
        </p:nvSpPr>
        <p:spPr>
          <a:xfrm>
            <a:off x="4284720" y="6524640"/>
            <a:ext cx="1223640" cy="333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65F4C0B3-BCA1-47D4-93CE-124FCCAD314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5800" cy="8568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4000" y="1628640"/>
            <a:ext cx="8515080" cy="45874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4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一、立即终止接触毒物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marL="45720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一）吸入性中毒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立即将患者从有毒环境转移到空气新鲜的地方，并解开衣扣、裤带，保持呼吸道通畅，给氧，注意保暖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45720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二）接触性中毒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立即脱离中毒现场，脱去污染衣物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4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酒精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辅助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血清乙醇浓度测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动脉血气分析和电解质测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心电图检查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血糖检测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肝功能检测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酒精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4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救护措施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急救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857160" indent="0">
              <a:lnSpc>
                <a:spcPct val="15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迅速清除毒物：催吐、洗胃、促进乙醇的体内代谢和排出。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857160" indent="0">
              <a:lnSpc>
                <a:spcPct val="15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特效解毒剂：纳洛酮是阿片类受体拮抗剂，具有改善呼吸和循环功能、兴奋呼吸和催醒的作用。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857160" indent="0">
              <a:lnSpc>
                <a:spcPct val="15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对症治疗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酒精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护理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8ac8de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病情观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8ac8de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一般护理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8ac8de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安全防护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8ac8de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心理护理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镇静催眠药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六、急性镇静催眠药中毒患者的救护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382" name="圆角矩形 3"/>
          <p:cNvSpPr/>
          <p:nvPr/>
        </p:nvSpPr>
        <p:spPr>
          <a:xfrm>
            <a:off x="324000" y="2349360"/>
            <a:ext cx="8496000" cy="280800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40000"/>
              </a:lnSpc>
              <a:tabLst>
                <a:tab algn="l" pos="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男性，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24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岁，因昏迷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24h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，平车入院。入院查体：体温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37.8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℃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，脉搏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24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分，呼吸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24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分，血压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05/83mmHg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。患者瞳孔等大等圆，直径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&lt;2mm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，对光反射消失。颈软，气管偏右，双肺布满鼾音。胃内容物及尿检为巴比妥类药物阳性，诊断为重度巴比妥中毒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请问：如何对该患者进行急救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镇静催眠药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250920" y="1773360"/>
            <a:ext cx="8664120" cy="44748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>
              <a:lnSpc>
                <a:spcPct val="20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镇静催眠药是中枢神经系统抑制剂，在临床上广泛应用于镇静、催眠、抗惊厥以及麻醉前给药。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343080">
              <a:lnSpc>
                <a:spcPct val="20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其中，巴比妥类和苯二氮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微软雅黑"/>
              </a:rPr>
              <a:t>䓬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类镇静催眠药中毒最常见。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镇静催眠药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>
              <a:lnSpc>
                <a:spcPct val="14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护理评估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7430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毒物接触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巴比妥类药物中毒：轻度中毒、中度中毒、重度中毒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苯二氮䓬类药物中毒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镇静催眠药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lvl="1" marL="7430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辅助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血液、尿液、胃液中药物浓度测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血液生化检查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动脉血气分析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心电图检查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镇静催眠药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>
              <a:lnSpc>
                <a:spcPct val="14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救护措施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743040">
              <a:lnSpc>
                <a:spcPct val="14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急救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1143000" indent="0">
              <a:lnSpc>
                <a:spcPct val="14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立即清除毒物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1143000" indent="0">
              <a:lnSpc>
                <a:spcPct val="14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特效解毒剂：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氟马西尼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是苯二氮䓬类药物中毒的特效解毒药。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1143000" indent="0">
              <a:lnSpc>
                <a:spcPct val="14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维持重要器官功能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1143000" indent="0">
              <a:lnSpc>
                <a:spcPct val="14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防治并发症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镇静催眠药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lvl="1" marL="743040">
              <a:lnSpc>
                <a:spcPct val="14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护理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>
              <a:lnSpc>
                <a:spcPct val="20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病情观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>
              <a:lnSpc>
                <a:spcPct val="20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一般护理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>
              <a:lnSpc>
                <a:spcPct val="20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心理护理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强酸强碱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七、强酸强碱中毒患者的救护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36"/>
          </p:nvPr>
        </p:nvSpPr>
        <p:spPr>
          <a:xfrm>
            <a:off x="6248520" y="0"/>
            <a:ext cx="2666520" cy="228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buNone/>
            </a:pPr>
            <a:endParaRPr b="0" lang="en-US" sz="10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396" name="圆角矩形 4"/>
          <p:cNvSpPr/>
          <p:nvPr/>
        </p:nvSpPr>
        <p:spPr>
          <a:xfrm>
            <a:off x="179280" y="2133720"/>
            <a:ext cx="8784720" cy="43192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40000"/>
              </a:lnSpc>
              <a:tabLst>
                <a:tab algn="l" pos="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男性，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21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岁，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2h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前因情绪不佳口服实验室用稀硫酸约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30ml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，服后即感咽喉部、食道灼痛，眼部刺痛，畏光流泪，频发恶心、呕吐，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30min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后呕吐咖啡渣样物约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800ml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。入院查体：体温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36.5℃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，脉搏 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10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分，呼吸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26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分，血压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00/60mmHg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。患者急性痛苦貌，呼吸急促，烦躁不安。口腔黏膜呈深褐色，双肺散在中、细湿啰音，胸片表现为双肺纹理增粗、紊乱呈现模糊或斑片状。心电图示：窦性心动过速，偶见室性早搏、房室传导阻滞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0000"/>
              </a:lnSpc>
              <a:tabLst>
                <a:tab algn="l" pos="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问题：患者出现上述症状，最可能的原因是什么？如何对该患者进行急救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Num" idx="11"/>
          </p:nvPr>
        </p:nvSpPr>
        <p:spPr>
          <a:xfrm>
            <a:off x="4427640" y="6524640"/>
            <a:ext cx="914040" cy="5616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A0621C59-6920-4240-BBEF-D59CF52C670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5800" cy="8568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95640" y="1413000"/>
            <a:ext cx="8568720" cy="48034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4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二、清除尚未吸收的毒物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marL="45720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一）清除皮肤黏膜上的毒物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立即脱去污染的衣物，先用毛巾、棉花或卫生纸等拭去肉眼可见的毒物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然后用清水或肥皂水反复清洗患者体表、毛发、皮肤皱褶处、甲缝内的毒物，冲洗时间应达到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  <a:ea typeface="宋体"/>
              </a:rPr>
              <a:t>15</a:t>
            </a:r>
            <a:r>
              <a:rPr b="1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～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  <a:ea typeface="宋体"/>
              </a:rPr>
              <a:t>30min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，毒物种类明确者可使用特殊清洗液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4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强酸强碱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68360" y="1371600"/>
            <a:ext cx="844668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>
              <a:lnSpc>
                <a:spcPct val="20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强酸（如硫酸、盐酸和硝酸等）和强碱（如氢氧化钠、氢氧化钾、氧化钠和氧化钾等）均具有强烈的刺激和腐蚀作用。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 type="dt" idx="37"/>
          </p:nvPr>
        </p:nvSpPr>
        <p:spPr>
          <a:xfrm>
            <a:off x="6248520" y="0"/>
            <a:ext cx="2666520" cy="228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buNone/>
            </a:pPr>
            <a:endParaRPr b="0" lang="en-US" sz="10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强酸强碱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4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护理评估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毒物接触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经消化道吸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经呼吸道吸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经皮肤黏膜接触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眼睛接触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全身表现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dt" idx="38"/>
          </p:nvPr>
        </p:nvSpPr>
        <p:spPr>
          <a:xfrm>
            <a:off x="6248520" y="0"/>
            <a:ext cx="2666520" cy="228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buNone/>
            </a:pPr>
            <a:endParaRPr b="0" lang="en-US" sz="10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强酸强碱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4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救护措施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急救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857160" indent="0">
              <a:lnSpc>
                <a:spcPct val="14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强酸中毒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857160" indent="0">
              <a:lnSpc>
                <a:spcPct val="14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强碱中毒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405" name="线形标注 1 4"/>
          <p:cNvSpPr/>
          <p:nvPr/>
        </p:nvSpPr>
        <p:spPr>
          <a:xfrm>
            <a:off x="3419640" y="1125360"/>
            <a:ext cx="5544720" cy="3671640"/>
          </a:xfrm>
          <a:prstGeom prst="borderCallout1">
            <a:avLst>
              <a:gd name="adj1" fmla="val 20346"/>
              <a:gd name="adj2" fmla="val 123"/>
              <a:gd name="adj3" fmla="val 49305"/>
              <a:gd name="adj4" fmla="val -8818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4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）口服中毒者：尽早给予镁乳、氢氧化铝凝胶或石灰水等弱碱溶液中和强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）呼吸道吸入者：立即吸氧，给予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2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4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碳酸氢钠溶液雾化吸入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）皮肤灼伤者：快速用大量流动水冲洗，然后给予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2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5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碳酸氢钠或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1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氨水或肥皂水中和强酸，然后再用水冲洗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）眼睛接触者：立即用大量清水或生理盐水彻底清洗，然后给予可的松及抗生素眼药水交替滴眼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线形标注 1 5"/>
          <p:cNvSpPr/>
          <p:nvPr/>
        </p:nvSpPr>
        <p:spPr>
          <a:xfrm>
            <a:off x="3429000" y="1714320"/>
            <a:ext cx="5513040" cy="4817880"/>
          </a:xfrm>
          <a:prstGeom prst="borderCallout1">
            <a:avLst>
              <a:gd name="adj1" fmla="val 49651"/>
              <a:gd name="adj2" fmla="val -678"/>
              <a:gd name="adj3" fmla="val 38799"/>
              <a:gd name="adj4" fmla="val -8727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4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）口服强碱者：立即用食醋、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3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5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醋酸、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5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稀盐酸、柠檬汁或橘汁等弱酸溶液中和，然后服用生蛋清或牛奶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）吸入强碱者：吸入性氨中毒者，保持呼吸道通畅，积极氧疗，必要时气管切开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）皮肤接触者：尽快用大量流动水冲洗，然后涂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1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醋酸溶液中和强碱，应避免在冲洗前使用中和剂，以防发生中和热而加重损伤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）眼部接触者：立即用清水反复冲洗，然后滴入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1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的硫酸阿托品。石灰灼伤者，先将石灰粉末擦拭干净，再用大量流动清水冲洗，防止石灰遇水生热而加重烧伤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7" dur="500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9" dur="500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强酸强碱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护理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病情观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营养支持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口腔护理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心理护理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 type="dt" idx="39"/>
          </p:nvPr>
        </p:nvSpPr>
        <p:spPr>
          <a:xfrm>
            <a:off x="6248520" y="0"/>
            <a:ext cx="2666520" cy="228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buNone/>
            </a:pPr>
            <a:endParaRPr b="0" lang="en-US" sz="10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dt" idx="40"/>
          </p:nvPr>
        </p:nvSpPr>
        <p:spPr>
          <a:xfrm>
            <a:off x="6248520" y="0"/>
            <a:ext cx="2666520" cy="228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矩形 4"/>
          <p:cNvSpPr/>
          <p:nvPr/>
        </p:nvSpPr>
        <p:spPr>
          <a:xfrm>
            <a:off x="3178800" y="2709000"/>
            <a:ext cx="27507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9600" spc="299" strike="noStrike">
                <a:solidFill>
                  <a:srgbClr val="8adeff"/>
                </a:solidFill>
                <a:latin typeface="Arial"/>
              </a:rPr>
              <a:t>谢   谢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92" name="内容占位符 4"/>
          <p:cNvGraphicFramePr/>
          <p:nvPr/>
        </p:nvGraphicFramePr>
        <p:xfrm>
          <a:off x="539640" y="2133720"/>
          <a:ext cx="7703640" cy="3400920"/>
        </p:xfrm>
        <a:graphic>
          <a:graphicData uri="http://schemas.openxmlformats.org/drawingml/2006/table">
            <a:tbl>
              <a:tblPr/>
              <a:tblGrid>
                <a:gridCol w="3852000"/>
                <a:gridCol w="3852000"/>
              </a:tblGrid>
              <a:tr h="67644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毒物种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皮肤清洁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644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200000"/>
                        </a:lnSpc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酸性（有机磷、甲醛、强酸等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%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碳酸氢钠或肥皂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noFill/>
                    </a:lnB>
                    <a:noFill/>
                  </a:tcPr>
                </a:tc>
              </a:tr>
              <a:tr h="67644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碱性（氨水、氢氧化钠等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醋酸、食醋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%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%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硼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7644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无机磷（磷化锌等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%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碳酸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7644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苯类、香蕉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0%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酒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3" name="PlaceHolder 2"/>
          <p:cNvSpPr>
            <a:spLocks noGrp="1"/>
          </p:cNvSpPr>
          <p:nvPr>
            <p:ph type="dt" idx="12"/>
          </p:nvPr>
        </p:nvSpPr>
        <p:spPr>
          <a:xfrm>
            <a:off x="6248520" y="0"/>
            <a:ext cx="2666520" cy="228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buNone/>
            </a:pPr>
            <a:endParaRPr b="0" lang="en-US" sz="10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94" name="TextBox 8"/>
          <p:cNvSpPr/>
          <p:nvPr/>
        </p:nvSpPr>
        <p:spPr>
          <a:xfrm>
            <a:off x="2484360" y="1476000"/>
            <a:ext cx="3958920" cy="7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常见皮肤清洁剂及适应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Num" idx="13"/>
          </p:nvPr>
        </p:nvSpPr>
        <p:spPr>
          <a:xfrm>
            <a:off x="4284720" y="6524640"/>
            <a:ext cx="1223640" cy="5616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5B88CFD7-E371-4915-9526-E049231C523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5800" cy="8568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179280" y="1628640"/>
            <a:ext cx="8659440" cy="45874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457200" indent="0">
              <a:lnSpc>
                <a:spcPct val="14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二）清除眼内的毒物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眼内毒物可用清水或生理盐水反复冲洗，冲洗时间</a:t>
            </a:r>
            <a:r>
              <a:rPr b="1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不少于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  <a:ea typeface="宋体"/>
              </a:rPr>
              <a:t>5min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避免使用中和性溶液冲洗，以免发生化学反应，造成角膜、结膜的损伤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冲洗后给予抗生素眼药水或眼膏，防治继发感染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4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Num" idx="14"/>
          </p:nvPr>
        </p:nvSpPr>
        <p:spPr>
          <a:xfrm>
            <a:off x="4356000" y="6524640"/>
            <a:ext cx="1201320" cy="333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2E4DEC93-B556-4ECF-8C9C-FEEF7204D4C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5800" cy="8568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0" y="1628640"/>
            <a:ext cx="8838720" cy="45874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457200" indent="0">
              <a:lnSpc>
                <a:spcPct val="14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三）清除胃肠道内的毒物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催吐：是排空胃内容物最简单、最有效的方法，但此方法仅限于清醒且合作的患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洗胃：是彻底清除胃内容物的有效方法，也是口服毒物中毒患者抢救成功的重要措施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导泻 ：在催吐或彻底洗胃后，通过口服或由胃管注入泻药，加速肠蠕动，减少毒物在肠道内的停留时间，减少毒物的吸收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灌肠：是快速有效的肠道毒物清除方法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课件模板">
  <a:themeElements>
    <a:clrScheme name="课件模板 1">
      <a:dk1>
        <a:srgbClr val="046ca6"/>
      </a:dk1>
      <a:lt1>
        <a:srgbClr val="ffffff"/>
      </a:lt1>
      <a:dk2>
        <a:srgbClr val="000000"/>
      </a:dk2>
      <a:lt2>
        <a:srgbClr val="dddddd"/>
      </a:lt2>
      <a:accent1>
        <a:srgbClr val="8ac8de"/>
      </a:accent1>
      <a:accent2>
        <a:srgbClr val="99669b"/>
      </a:accent2>
      <a:accent3>
        <a:srgbClr val="ffffff"/>
      </a:accent3>
      <a:accent4>
        <a:srgbClr val="035b8d"/>
      </a:accent4>
      <a:accent5>
        <a:srgbClr val="c4e0ec"/>
      </a:accent5>
      <a:accent6>
        <a:srgbClr val="8a5c8c"/>
      </a:accent6>
      <a:hlink>
        <a:srgbClr val="ddb523"/>
      </a:hlink>
      <a:folHlink>
        <a:srgbClr val="969696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课件模板">
  <a:themeElements>
    <a:clrScheme name="课件模板 1">
      <a:dk1>
        <a:srgbClr val="046ca6"/>
      </a:dk1>
      <a:lt1>
        <a:srgbClr val="ffffff"/>
      </a:lt1>
      <a:dk2>
        <a:srgbClr val="000000"/>
      </a:dk2>
      <a:lt2>
        <a:srgbClr val="dddddd"/>
      </a:lt2>
      <a:accent1>
        <a:srgbClr val="8ac8de"/>
      </a:accent1>
      <a:accent2>
        <a:srgbClr val="99669b"/>
      </a:accent2>
      <a:accent3>
        <a:srgbClr val="ffffff"/>
      </a:accent3>
      <a:accent4>
        <a:srgbClr val="035b8d"/>
      </a:accent4>
      <a:accent5>
        <a:srgbClr val="c4e0ec"/>
      </a:accent5>
      <a:accent6>
        <a:srgbClr val="8a5c8c"/>
      </a:accent6>
      <a:hlink>
        <a:srgbClr val="ddb523"/>
      </a:hlink>
      <a:folHlink>
        <a:srgbClr val="969696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课件模板">
  <a:themeElements>
    <a:clrScheme name="课件模板 1">
      <a:dk1>
        <a:srgbClr val="046ca6"/>
      </a:dk1>
      <a:lt1>
        <a:srgbClr val="ffffff"/>
      </a:lt1>
      <a:dk2>
        <a:srgbClr val="000000"/>
      </a:dk2>
      <a:lt2>
        <a:srgbClr val="dddddd"/>
      </a:lt2>
      <a:accent1>
        <a:srgbClr val="8ac8de"/>
      </a:accent1>
      <a:accent2>
        <a:srgbClr val="99669b"/>
      </a:accent2>
      <a:accent3>
        <a:srgbClr val="ffffff"/>
      </a:accent3>
      <a:accent4>
        <a:srgbClr val="035b8d"/>
      </a:accent4>
      <a:accent5>
        <a:srgbClr val="c4e0ec"/>
      </a:accent5>
      <a:accent6>
        <a:srgbClr val="8a5c8c"/>
      </a:accent6>
      <a:hlink>
        <a:srgbClr val="ddb523"/>
      </a:hlink>
      <a:folHlink>
        <a:srgbClr val="969696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000000"/>
      </a:dk2>
      <a:lt2>
        <a:srgbClr val="dddddd"/>
      </a:lt2>
      <a:accent1>
        <a:srgbClr val="8ac8de"/>
      </a:accent1>
      <a:accent2>
        <a:srgbClr val="99669b"/>
      </a:accent2>
      <a:accent3>
        <a:srgbClr val="ffffff"/>
      </a:accent3>
      <a:accent4>
        <a:srgbClr val="035b8d"/>
      </a:accent4>
      <a:accent5>
        <a:srgbClr val="c4e0ec"/>
      </a:accent5>
      <a:accent6>
        <a:srgbClr val="8a5c8c"/>
      </a:accent6>
      <a:hlink>
        <a:srgbClr val="ddb523"/>
      </a:hlink>
      <a:folHlink>
        <a:srgbClr val="969696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1</TotalTime>
  <Application>LibreOffice/7.4.7.2$Linux_X86_64 LibreOffice_project/40$Build-2</Application>
  <AppVersion>15.0000</AppVersion>
  <Pages>0</Pages>
  <Words>3539</Words>
  <Characters>0</Characters>
  <CharactersWithSpaces>0</CharactersWithSpaces>
  <Paragraphs>452</Paragraphs>
  <Company>pump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微软用户</cp:lastModifiedBy>
  <cp:lastPrinted>1899-12-30T00:00:00Z</cp:lastPrinted>
  <dcterms:modified xsi:type="dcterms:W3CDTF">2015-12-10T08:04:14Z</dcterms:modified>
  <cp:revision>126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  <property fmtid="{D5CDD505-2E9C-101B-9397-08002B2CF9AE}" pid="3" name="Notes">
    <vt:r8>13</vt:r8>
  </property>
  <property fmtid="{D5CDD505-2E9C-101B-9397-08002B2CF9AE}" pid="4" name="PresentationFormat">
    <vt:lpwstr>全屏显示(4:3)</vt:lpwstr>
  </property>
  <property fmtid="{D5CDD505-2E9C-101B-9397-08002B2CF9AE}" pid="5" name="Slides">
    <vt:r8>64</vt:r8>
  </property>
</Properties>
</file>